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5.jpeg" ContentType="image/jpeg"/>
  <Override PartName="/ppt/media/image9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24.jpeg" ContentType="image/jpeg"/>
  <Override PartName="/ppt/media/image3.jpeg" ContentType="image/jpe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4.wmf" ContentType="image/x-wmf"/>
  <Override PartName="/ppt/media/image1.wmf" ContentType="image/x-wmf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DBD8-8345-4C07-82E9-1DF97CFFCB1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A10-BF0E-46BD-B413-DC499D73045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87BF-5617-456C-A7C8-EE803640E32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iste en una secuencia de 10 reacciones enzimáticas que catalizan la transformación de una molécul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lucosa a dos de piruvato, con la producción de dos moles de ATP y dos de NADH por mol de gluco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591-2A4C-497A-A869-C10AB43A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FAC-2FA6-4936-909F-1F37CDCA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9B1-8FE1-4F0B-A433-6D869C1D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783-0C74-4B23-89F4-D575F406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F14-FE99-4CC3-ABFA-CDE3157A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A36-631D-4BAB-B06C-C8E44CBA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470-656C-4B0C-B905-7B77FBD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0A7-936C-4727-A4A3-D2F6A187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A19-51CD-4ABA-B768-6CD50A83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8D0-BE5E-4BD0-BABC-F643A8C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6C8-D530-4E86-877A-26DF0713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F8C-8494-4FEF-BE93-9CBD4A8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DE98-0350-4A9E-8FC1-E7AF5656DFC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3: -.Metabolismo. Principales nutrientes de autótrofos y heterótrofos. Catabolismo. Anabolismo. Metabolismo de Carbohidratos en los distintos organismos: Animales y Vegetales. Digestión y absorción. Sistema digestivo en individuos heterótrofos. Digestión en rumiantes. Estructuras especializadas.  </a:t>
            </a:r>
            <a:r>
              <a:rPr b="1" lang="es-AR" sz="1800" spc="-1" strike="noStrike">
                <a:solidFill>
                  <a:srgbClr val="ff0066"/>
                </a:solidFill>
                <a:latin typeface="Arial"/>
              </a:rPr>
              <a:t>Distribución de glucosa en una célula animal y una célula vegetal. Degradación de glucosa: glicólisis. Localización celular. Etapas. Producción de energía. Regulación. Balance energético en condiciones de anaerobiosis. Destino del piruvato. Fermentaciones. Degradación de otras hex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4: Destino del piruvato en condiciones aeróbicas. Complejo de la piruvato deshidrogenasa. Ciclo de Krebs. Localización celular. Balance energético del ciclo. Regulaci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. Reacciones anapleróticas según el tipo de célula o tejido. Naturaleza anfibólica del ciclo. Sistemas de lanzaderas: Lanzadera del glicerofosfato y lanzadera del malato-aspartato. Balance energético de la degradación de glucosa en condiciones de aerobiosis. Efecto Pasteur. Vía de las pentosas. Localización. Importancia metabó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BOLILLA 5: Biosíntesis de carbohidratos. Gluconeogénesis. Etapas. Regulación. Costo energético. Ciclos fútiles. Biosíntesis del glucógeno. Regulación coordinada entre la degradación y la síntesis del glucógeno.  Costo energético.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iosíntesis de almid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íntesis fotosintética de glúcidos. Reacciones de fijación y reducción fotosintética del carbono, ciclo de Calvin. Regulación. Fotorrespiración y ruta C4. Biosíntesis de almidón, sacarosa y celulosa en vege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72400" y="279360"/>
            <a:ext cx="86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IMICA BIOLOGIC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ic. y Prof. en Cs. Biol. y Lic. en Biotecn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63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0"/>
          <p:cNvSpPr/>
          <p:nvPr/>
        </p:nvSpPr>
        <p:spPr>
          <a:xfrm>
            <a:off x="3203640" y="3716280"/>
            <a:ext cx="3240000" cy="15130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250920" y="8848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3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Consumo del segundo ATP. 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fructo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fosforila la Fru-6-P para formar Fru-1,6-d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116000" y="2465280"/>
          <a:ext cx="694836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5280"/>
                    <a:ext cx="694836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Oval 19"/>
          <p:cNvSpPr/>
          <p:nvPr/>
        </p:nvSpPr>
        <p:spPr>
          <a:xfrm>
            <a:off x="3995640" y="3284640"/>
            <a:ext cx="216000" cy="360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0"/>
          <p:cNvSpPr/>
          <p:nvPr/>
        </p:nvSpPr>
        <p:spPr>
          <a:xfrm>
            <a:off x="7308720" y="2924280"/>
            <a:ext cx="719280" cy="5047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592200" y="538020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La Fosfofructoquinasa es una enzima alostérica y esta reacción es el principal sitio de control de la velocidad de la vía glicolítica.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79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0"/>
          <p:cNvSpPr/>
          <p:nvPr/>
        </p:nvSpPr>
        <p:spPr>
          <a:xfrm>
            <a:off x="2411280" y="4797360"/>
            <a:ext cx="4248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66560" y="403560"/>
            <a:ext cx="828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4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 triosas fosf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ald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ruptura de la Fru-1,6-BP en dos triosas, el gliceraldeh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í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do-3-fosfato (G-3-P) y la dihidroxiacetona fosfato (DHA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1403280" y="3429000"/>
            <a:ext cx="216072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1619280" y="1484280"/>
            <a:ext cx="6408360" cy="4465080"/>
            <a:chOff x="1619280" y="1484280"/>
            <a:chExt cx="6408360" cy="4465080"/>
          </a:xfrm>
        </p:grpSpPr>
        <p:grpSp>
          <p:nvGrpSpPr>
            <p:cNvPr id="190" name="Group 9"/>
            <p:cNvGrpSpPr/>
            <p:nvPr/>
          </p:nvGrpSpPr>
          <p:grpSpPr>
            <a:xfrm>
              <a:off x="1619280" y="1484280"/>
              <a:ext cx="6408360" cy="4465080"/>
              <a:chOff x="1619280" y="1484280"/>
              <a:chExt cx="6408360" cy="4465080"/>
            </a:xfrm>
          </p:grpSpPr>
          <p:sp>
            <p:nvSpPr>
              <p:cNvPr id="191" name="Text Box 10"/>
              <p:cNvSpPr/>
              <p:nvPr/>
            </p:nvSpPr>
            <p:spPr>
              <a:xfrm>
                <a:off x="4317840" y="1484280"/>
                <a:ext cx="362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333399"/>
                    </a:solidFill>
                    <a:latin typeface="Arial"/>
                  </a:rPr>
                  <a:t>Dos moléculas de 3 carbono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2" name="Object 8"/>
              <p:cNvGraphicFramePr/>
              <p:nvPr/>
            </p:nvGraphicFramePr>
            <p:xfrm>
              <a:off x="1619280" y="1985040"/>
              <a:ext cx="6408360" cy="3964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93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19280" y="1985040"/>
                        <a:ext cx="6408360" cy="396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4" name="Rectangle 8"/>
              <p:cNvSpPr/>
              <p:nvPr/>
            </p:nvSpPr>
            <p:spPr>
              <a:xfrm>
                <a:off x="4065480" y="5093640"/>
                <a:ext cx="3204000" cy="78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12"/>
            <p:cNvSpPr/>
            <p:nvPr/>
          </p:nvSpPr>
          <p:spPr>
            <a:xfrm>
              <a:off x="4211640" y="306864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6207120" y="314172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98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11280" y="5734080"/>
            <a:ext cx="4248360" cy="647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84360" y="387720"/>
            <a:ext cx="79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5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ólo uno de los productos de la ruptura aldólica, el G-3-P, contin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ú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a la vía glicolítica. La interconversión entre éste y la DHAP es catalizada por la triosa fosfato isome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419640" y="5818320"/>
            <a:ext cx="24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mina 1ra 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7"/>
          <p:cNvGrpSpPr/>
          <p:nvPr/>
        </p:nvGrpSpPr>
        <p:grpSpPr>
          <a:xfrm>
            <a:off x="1357200" y="1785960"/>
            <a:ext cx="7344000" cy="3924360"/>
            <a:chOff x="1357200" y="1785960"/>
            <a:chExt cx="7344000" cy="3924360"/>
          </a:xfrm>
        </p:grpSpPr>
        <p:graphicFrame>
          <p:nvGraphicFramePr>
            <p:cNvPr id="211" name="Object 8"/>
            <p:cNvGraphicFramePr/>
            <p:nvPr/>
          </p:nvGraphicFramePr>
          <p:xfrm>
            <a:off x="1357200" y="1785960"/>
            <a:ext cx="7344000" cy="39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785960"/>
                      <a:ext cx="7344000" cy="39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Text Box 15"/>
            <p:cNvSpPr/>
            <p:nvPr/>
          </p:nvSpPr>
          <p:spPr>
            <a:xfrm>
              <a:off x="4335480" y="2906640"/>
              <a:ext cx="2365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6638760" y="2978280"/>
              <a:ext cx="18432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3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16" name="Group 7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17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8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2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3924360" y="404640"/>
            <a:ext cx="2879640" cy="1440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5280" y="29880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6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primer intermediario de "alta energí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”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gliceraldehido-3-fosfato deshidroge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oxidación y fosforilación del G-3-P, por el NAD</a:t>
            </a:r>
            <a:r>
              <a:rPr b="1" i="1" lang="es-ES" sz="2000" spc="-1" strike="noStrike" baseline="30000">
                <a:solidFill>
                  <a:srgbClr val="009999"/>
                </a:solidFill>
                <a:latin typeface="Arial"/>
              </a:rPr>
              <a:t>+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(Nicotinamida Adenin Dinucleótido)  y fosfato inorgánico (Pi), para producir el 1,3-bifosfoglicerato (BF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24000" y="515772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4"/>
          <p:cNvGrpSpPr/>
          <p:nvPr/>
        </p:nvGrpSpPr>
        <p:grpSpPr>
          <a:xfrm>
            <a:off x="1760400" y="5281560"/>
            <a:ext cx="1389240" cy="1245240"/>
            <a:chOff x="1760400" y="5281560"/>
            <a:chExt cx="1389240" cy="1245240"/>
          </a:xfrm>
        </p:grpSpPr>
        <p:pic>
          <p:nvPicPr>
            <p:cNvPr id="229" name="Picture 17" descr="ln03e"/>
            <p:cNvPicPr/>
            <p:nvPr/>
          </p:nvPicPr>
          <p:blipFill>
            <a:blip r:embed="rId1"/>
            <a:stretch/>
          </p:blipFill>
          <p:spPr>
            <a:xfrm>
              <a:off x="2185920" y="5281560"/>
              <a:ext cx="82656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18"/>
            <p:cNvSpPr/>
            <p:nvPr/>
          </p:nvSpPr>
          <p:spPr>
            <a:xfrm>
              <a:off x="1760400" y="6250320"/>
              <a:ext cx="138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osfato inorgá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0" descr="NAD"/>
          <p:cNvPicPr/>
          <p:nvPr/>
        </p:nvPicPr>
        <p:blipFill>
          <a:blip r:embed="rId2"/>
          <a:stretch/>
        </p:blipFill>
        <p:spPr>
          <a:xfrm>
            <a:off x="3492360" y="4869000"/>
            <a:ext cx="259236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340000" y="2138400"/>
          <a:ext cx="475308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138400"/>
                    <a:ext cx="47530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20"/>
          <p:cNvGrpSpPr/>
          <p:nvPr/>
        </p:nvGrpSpPr>
        <p:grpSpPr>
          <a:xfrm>
            <a:off x="1946520" y="2997360"/>
            <a:ext cx="3594960" cy="938160"/>
            <a:chOff x="1946520" y="2997360"/>
            <a:chExt cx="3594960" cy="938160"/>
          </a:xfrm>
        </p:grpSpPr>
        <p:sp>
          <p:nvSpPr>
            <p:cNvPr id="235" name="Text Box 15"/>
            <p:cNvSpPr/>
            <p:nvPr/>
          </p:nvSpPr>
          <p:spPr>
            <a:xfrm>
              <a:off x="194652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3706920" y="3284640"/>
              <a:ext cx="3618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7"/>
            <p:cNvSpPr/>
            <p:nvPr/>
          </p:nvSpPr>
          <p:spPr>
            <a:xfrm>
              <a:off x="404172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8"/>
            <p:cNvSpPr/>
            <p:nvPr/>
          </p:nvSpPr>
          <p:spPr>
            <a:xfrm>
              <a:off x="4689360" y="29973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"/>
            <p:cNvSpPr/>
            <p:nvPr/>
          </p:nvSpPr>
          <p:spPr>
            <a:xfrm>
              <a:off x="5078880" y="3232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4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4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2"/>
          <p:cNvSpPr/>
          <p:nvPr/>
        </p:nvSpPr>
        <p:spPr>
          <a:xfrm>
            <a:off x="3995640" y="1628640"/>
            <a:ext cx="2880000" cy="16560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24000" y="3164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7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imera producción de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Se forma el primer ATP por </a:t>
            </a:r>
            <a:r>
              <a:rPr b="1" i="1" lang="es-ES" sz="2000" spc="-1" strike="noStrike" u="sng">
                <a:solidFill>
                  <a:srgbClr val="ff0066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, rindiendo además 3-fosfoglicerato en una reacción catalizada por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icerato quinasa (PG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6"/>
          <p:cNvGraphicFramePr/>
          <p:nvPr/>
        </p:nvGraphicFramePr>
        <p:xfrm>
          <a:off x="2338560" y="1994040"/>
          <a:ext cx="432108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1994040"/>
                    <a:ext cx="432108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"/>
          <p:cNvSpPr/>
          <p:nvPr/>
        </p:nvSpPr>
        <p:spPr>
          <a:xfrm>
            <a:off x="200340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70836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257720" y="2463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524120" y="2879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32"/>
          <p:cNvGrpSpPr/>
          <p:nvPr/>
        </p:nvGrpSpPr>
        <p:grpSpPr>
          <a:xfrm>
            <a:off x="611280" y="1268280"/>
            <a:ext cx="7773840" cy="4399200"/>
            <a:chOff x="611280" y="1268280"/>
            <a:chExt cx="7773840" cy="4399200"/>
          </a:xfrm>
        </p:grpSpPr>
        <p:grpSp>
          <p:nvGrpSpPr>
            <p:cNvPr id="51" name="Group 30"/>
            <p:cNvGrpSpPr/>
            <p:nvPr/>
          </p:nvGrpSpPr>
          <p:grpSpPr>
            <a:xfrm>
              <a:off x="611280" y="1268280"/>
              <a:ext cx="7773840" cy="4399200"/>
              <a:chOff x="611280" y="1268280"/>
              <a:chExt cx="7773840" cy="4399200"/>
            </a:xfrm>
          </p:grpSpPr>
          <p:pic>
            <p:nvPicPr>
              <p:cNvPr id="52" name="Picture 11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611280" y="1268280"/>
                <a:ext cx="7773840" cy="439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Line 24"/>
              <p:cNvSpPr/>
              <p:nvPr/>
            </p:nvSpPr>
            <p:spPr>
              <a:xfrm flipH="1">
                <a:off x="3561840" y="4221000"/>
                <a:ext cx="129564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Rectangle 31"/>
            <p:cNvSpPr/>
            <p:nvPr/>
          </p:nvSpPr>
          <p:spPr>
            <a:xfrm>
              <a:off x="4714920" y="4005360"/>
              <a:ext cx="1368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23"/>
          <p:cNvSpPr/>
          <p:nvPr/>
        </p:nvSpPr>
        <p:spPr>
          <a:xfrm>
            <a:off x="4788000" y="414936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33680" y="40320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squema general del metabolismo de carbohidra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987640" y="2997360"/>
            <a:ext cx="1008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2627280" y="184464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2700360" y="436572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4572000" y="2924280"/>
            <a:ext cx="1727280" cy="50472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6948360" y="2997360"/>
            <a:ext cx="1008360" cy="3603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6877080" y="4365720"/>
            <a:ext cx="1295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6732720" y="5013360"/>
            <a:ext cx="151272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6588000" y="1844640"/>
            <a:ext cx="1727280" cy="504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8"/>
          <p:cNvGrpSpPr/>
          <p:nvPr/>
        </p:nvGrpSpPr>
        <p:grpSpPr>
          <a:xfrm>
            <a:off x="5435640" y="907920"/>
            <a:ext cx="1886040" cy="1944360"/>
            <a:chOff x="5435640" y="907920"/>
            <a:chExt cx="1886040" cy="1944360"/>
          </a:xfrm>
        </p:grpSpPr>
        <p:sp>
          <p:nvSpPr>
            <p:cNvPr id="66" name="Line 21"/>
            <p:cNvSpPr/>
            <p:nvPr/>
          </p:nvSpPr>
          <p:spPr>
            <a:xfrm flipV="1">
              <a:off x="5435640" y="1483920"/>
              <a:ext cx="1081080" cy="136836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5651640" y="907920"/>
              <a:ext cx="1670040" cy="45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tros tejidos com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or ej. tej. nervio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29"/>
          <p:cNvSpPr/>
          <p:nvPr/>
        </p:nvSpPr>
        <p:spPr>
          <a:xfrm>
            <a:off x="2771640" y="5084640"/>
            <a:ext cx="151308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6739560" y="4245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es-ES_tradnl" sz="16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9"/>
          <p:cNvGrpSpPr/>
          <p:nvPr/>
        </p:nvGrpSpPr>
        <p:grpSpPr>
          <a:xfrm>
            <a:off x="7451640" y="4724280"/>
            <a:ext cx="424440" cy="393120"/>
            <a:chOff x="7451640" y="4724280"/>
            <a:chExt cx="424440" cy="393120"/>
          </a:xfrm>
        </p:grpSpPr>
        <p:sp>
          <p:nvSpPr>
            <p:cNvPr id="71" name="Text Box 35"/>
            <p:cNvSpPr/>
            <p:nvPr/>
          </p:nvSpPr>
          <p:spPr>
            <a:xfrm>
              <a:off x="7472880" y="47466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0" lang="es-ES_tradnl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6"/>
            <p:cNvSpPr/>
            <p:nvPr/>
          </p:nvSpPr>
          <p:spPr>
            <a:xfrm>
              <a:off x="7451640" y="4794120"/>
              <a:ext cx="35892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7"/>
            <p:cNvSpPr/>
            <p:nvPr/>
          </p:nvSpPr>
          <p:spPr>
            <a:xfrm flipV="1">
              <a:off x="7523280" y="4724280"/>
              <a:ext cx="215640" cy="35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25 CuadroTexto"/>
          <p:cNvSpPr/>
          <p:nvPr/>
        </p:nvSpPr>
        <p:spPr>
          <a:xfrm>
            <a:off x="2090160" y="290664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LU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6 CuadroTexto"/>
          <p:cNvSpPr/>
          <p:nvPr/>
        </p:nvSpPr>
        <p:spPr>
          <a:xfrm>
            <a:off x="6162120" y="285768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LUT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7 CuadroTexto"/>
          <p:cNvSpPr/>
          <p:nvPr/>
        </p:nvSpPr>
        <p:spPr>
          <a:xfrm>
            <a:off x="6948000" y="10717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(GLUT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6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6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12"/>
          <p:cNvSpPr/>
          <p:nvPr/>
        </p:nvSpPr>
        <p:spPr>
          <a:xfrm>
            <a:off x="4427640" y="2924280"/>
            <a:ext cx="237636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24000" y="25128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8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iceromut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transferencia intramolecular de fosfato y la conversión de 3-PG a 2-fosfoglice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9"/>
          <p:cNvGraphicFramePr/>
          <p:nvPr/>
        </p:nvGraphicFramePr>
        <p:xfrm>
          <a:off x="1835280" y="1413000"/>
          <a:ext cx="5400720" cy="27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5400720" cy="27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15"/>
          <p:cNvSpPr/>
          <p:nvPr/>
        </p:nvSpPr>
        <p:spPr>
          <a:xfrm>
            <a:off x="1860480" y="266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682880" y="268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0"/>
          <p:cNvSpPr/>
          <p:nvPr/>
        </p:nvSpPr>
        <p:spPr>
          <a:xfrm>
            <a:off x="3348000" y="314172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rc 21"/>
          <p:cNvSpPr/>
          <p:nvPr/>
        </p:nvSpPr>
        <p:spPr>
          <a:xfrm flipV="1">
            <a:off x="3492360" y="2706840"/>
            <a:ext cx="433440" cy="366480"/>
          </a:xfrm>
          <a:custGeom>
            <a:avLst/>
            <a:gdLst>
              <a:gd name="textAreaLeft" fmla="*/ 0 w 433440"/>
              <a:gd name="textAreaRight" fmla="*/ 433800 w 433440"/>
              <a:gd name="textAreaTop" fmla="*/ 360 h 366480"/>
              <a:gd name="textAreaBottom" fmla="*/ 367200 h 366480"/>
            </a:gdLst>
            <a:ahLst/>
            <a:rect l="textAreaLeft" t="textAreaTop" r="textAreaRight" b="textAreaBottom"/>
            <a:pathLst>
              <a:path fill="none" w="42181" h="36383">
                <a:moveTo>
                  <a:pt x="-29207" y="0"/>
                </a:moveTo>
                <a:cubicBezTo>
                  <a:pt x="-25448" y="4004"/>
                  <a:pt x="-23355" y="9290"/>
                  <a:pt x="-23355" y="14783"/>
                </a:cubicBezTo>
                <a:cubicBezTo>
                  <a:pt x="-23355" y="26712"/>
                  <a:pt x="32510" y="-29153"/>
                  <a:pt x="20581" y="-29153"/>
                </a:cubicBezTo>
                <a:cubicBezTo>
                  <a:pt x="11177" y="-29153"/>
                  <a:pt x="2854" y="30299"/>
                  <a:pt x="0" y="21339"/>
                </a:cubicBezTo>
              </a:path>
              <a:path stroke="0" w="42181" h="36383">
                <a:moveTo>
                  <a:pt x="-29207" y="0"/>
                </a:moveTo>
                <a:cubicBezTo>
                  <a:pt x="-25448" y="4004"/>
                  <a:pt x="-23355" y="9290"/>
                  <a:pt x="-23355" y="14783"/>
                </a:cubicBezTo>
                <a:cubicBezTo>
                  <a:pt x="-23355" y="26712"/>
                  <a:pt x="32510" y="-29153"/>
                  <a:pt x="20581" y="-29153"/>
                </a:cubicBezTo>
                <a:cubicBezTo>
                  <a:pt x="11177" y="-29153"/>
                  <a:pt x="2854" y="30299"/>
                  <a:pt x="0" y="21339"/>
                </a:cubicBezTo>
                <a:lnTo>
                  <a:pt x="20581" y="14783"/>
                </a:lnTo>
                <a:lnTo>
                  <a:pt x="-29207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2"/>
          <p:cNvSpPr/>
          <p:nvPr/>
        </p:nvSpPr>
        <p:spPr>
          <a:xfrm>
            <a:off x="6084720" y="2637000"/>
            <a:ext cx="719280" cy="64764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4061160" y="2944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281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282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"/>
          <p:cNvSpPr/>
          <p:nvPr/>
        </p:nvSpPr>
        <p:spPr>
          <a:xfrm>
            <a:off x="4356000" y="3789360"/>
            <a:ext cx="2376720" cy="1368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58920" y="172080"/>
            <a:ext cx="83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9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rmación del segundo intermediario de "alta energía”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enol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la deshidratación del 2-PG a fosfoenolpiruvato (PEP), formando un complejo activo por la presencia del catión magnes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2052720" y="1917720"/>
          <a:ext cx="532764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917720"/>
                    <a:ext cx="5327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12"/>
          <p:cNvSpPr/>
          <p:nvPr/>
        </p:nvSpPr>
        <p:spPr>
          <a:xfrm>
            <a:off x="1693800" y="3137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59576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4197600" y="29908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3132000" y="3716280"/>
            <a:ext cx="50328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7"/>
          <p:cNvSpPr/>
          <p:nvPr/>
        </p:nvSpPr>
        <p:spPr>
          <a:xfrm>
            <a:off x="2125800" y="3284640"/>
            <a:ext cx="3585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6588000" y="3213000"/>
            <a:ext cx="648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5239440" y="3213000"/>
            <a:ext cx="19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2268360" y="404640"/>
            <a:ext cx="5011920" cy="5975280"/>
            <a:chOff x="2268360" y="404640"/>
            <a:chExt cx="5011920" cy="5975280"/>
          </a:xfrm>
        </p:grpSpPr>
        <p:grpSp>
          <p:nvGrpSpPr>
            <p:cNvPr id="305" name="Group 3"/>
            <p:cNvGrpSpPr/>
            <p:nvPr/>
          </p:nvGrpSpPr>
          <p:grpSpPr>
            <a:xfrm>
              <a:off x="2268360" y="404640"/>
              <a:ext cx="5011920" cy="5975280"/>
              <a:chOff x="2268360" y="404640"/>
              <a:chExt cx="5011920" cy="5975280"/>
            </a:xfrm>
          </p:grpSpPr>
          <p:pic>
            <p:nvPicPr>
              <p:cNvPr id="306" name="Picture 4" descr="1 VG"/>
              <p:cNvPicPr/>
              <p:nvPr/>
            </p:nvPicPr>
            <p:blipFill>
              <a:blip r:embed="rId1"/>
              <a:srcRect l="0" t="40625" r="0" b="18644"/>
              <a:stretch/>
            </p:blipFill>
            <p:spPr>
              <a:xfrm>
                <a:off x="2268360" y="404640"/>
                <a:ext cx="5011920" cy="59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Rectangle 5"/>
              <p:cNvSpPr/>
              <p:nvPr/>
            </p:nvSpPr>
            <p:spPr>
              <a:xfrm>
                <a:off x="2843280" y="5876640"/>
                <a:ext cx="1368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6"/>
              <p:cNvSpPr/>
              <p:nvPr/>
            </p:nvSpPr>
            <p:spPr>
              <a:xfrm>
                <a:off x="5651640" y="5876640"/>
                <a:ext cx="1152360" cy="503280"/>
              </a:xfrm>
              <a:prstGeom prst="rect">
                <a:avLst/>
              </a:prstGeom>
              <a:solidFill>
                <a:srgbClr val="f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7"/>
            <p:cNvSpPr/>
            <p:nvPr/>
          </p:nvSpPr>
          <p:spPr>
            <a:xfrm>
              <a:off x="5292720" y="1027080"/>
              <a:ext cx="1531440" cy="4590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liceralde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o-3-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shidrogen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5362200" y="2228760"/>
              <a:ext cx="14076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9"/>
            <p:cNvSpPr/>
            <p:nvPr/>
          </p:nvSpPr>
          <p:spPr>
            <a:xfrm>
              <a:off x="5362560" y="3343320"/>
              <a:ext cx="124920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sfoglice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u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0"/>
            <p:cNvSpPr/>
            <p:nvPr/>
          </p:nvSpPr>
          <p:spPr>
            <a:xfrm>
              <a:off x="5724360" y="4365720"/>
              <a:ext cx="863640" cy="30708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nol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1"/>
            <p:cNvSpPr/>
            <p:nvPr/>
          </p:nvSpPr>
          <p:spPr>
            <a:xfrm>
              <a:off x="5710320" y="5356080"/>
              <a:ext cx="893880" cy="52020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iruv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12"/>
          <p:cNvSpPr/>
          <p:nvPr/>
        </p:nvSpPr>
        <p:spPr>
          <a:xfrm>
            <a:off x="4284720" y="4869000"/>
            <a:ext cx="2376360" cy="15127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68360" y="46728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0. 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Producción del segundo ATP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piruvato quin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cataliza el acoplamiento de la energía libre de la hidrólisis del PEP a la síntesis de ATP (</a:t>
            </a:r>
            <a:r>
              <a:rPr b="1" i="1" lang="es-ES" sz="2000" spc="-1" strike="noStrike" u="sng">
                <a:solidFill>
                  <a:srgbClr val="ff0066"/>
                </a:solidFill>
                <a:uFillTx/>
                <a:latin typeface="Arial"/>
              </a:rPr>
              <a:t>fosforilación a nivel de sustrato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) para formar piruv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10"/>
          <p:cNvGraphicFramePr/>
          <p:nvPr/>
        </p:nvGraphicFramePr>
        <p:xfrm>
          <a:off x="1908000" y="2287440"/>
          <a:ext cx="5543640" cy="25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87440"/>
                    <a:ext cx="554364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8"/>
          <p:cNvSpPr/>
          <p:nvPr/>
        </p:nvSpPr>
        <p:spPr>
          <a:xfrm>
            <a:off x="190944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276720" y="32558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897360" y="32130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430848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6395760" y="35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375360" y="3925800"/>
            <a:ext cx="13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g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 Mn</a:t>
            </a:r>
            <a:r>
              <a:rPr b="0" lang="es-ES_tradnl" sz="1800" spc="-1" strike="noStrike" baseline="30000">
                <a:solidFill>
                  <a:srgbClr val="333399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9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34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326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2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331" name="Text Box 11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334" name="Text Box 10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17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336" name="Text Box 12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Group 16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338" name="Line 14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0" name="Text Box 20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6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343" name="Line 19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3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346" name="Line 8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4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7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349" name="Line 9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5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7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353" name="Line 26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28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9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Text Box 31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40"/>
          <p:cNvSpPr/>
          <p:nvPr/>
        </p:nvSpPr>
        <p:spPr>
          <a:xfrm>
            <a:off x="450072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2917080" y="28800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. Fermentación l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8908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n el músculo, especialmente durante el ejercicio intenso, cuando la demanda de ATP es elevada y se ha consumido el oxígeno mitocondrial, la </a:t>
            </a: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lactato deshidrogenasa (LDH)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cataliza la reducción del piruvato para dar lactato, utilizando el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NADH provisto por la G-3-P deshidrogenasa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También en eritrocito y en las bacterias lác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6"/>
          <p:cNvGraphicFramePr/>
          <p:nvPr/>
        </p:nvGraphicFramePr>
        <p:xfrm>
          <a:off x="2557440" y="2205000"/>
          <a:ext cx="41752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2205000"/>
                    <a:ext cx="417528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8"/>
          <p:cNvSpPr/>
          <p:nvPr/>
        </p:nvSpPr>
        <p:spPr>
          <a:xfrm>
            <a:off x="250920" y="4581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cción global de la degradación anaeróbica de glucosa mediante la fermentación láctica puede esquematizarse 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lucosa + 2ADP + 2Pi  -------------&gt;  2 lactato + 2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42560" y="6020280"/>
            <a:ext cx="884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cazadores saben del sabor agrio de la carne de un animal que ha corrido hasta agotarse antes de mor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50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o es debido a la acumulación de ácido láctico en los múscu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216000" y="163800"/>
            <a:ext cx="86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La mayor parte del lactato, producto final de la glucólisis anaeróbica, es exportado desde las células musculares hasta el hígado por la circulación sanguínea. En el hígado, vuelve a convertirse en glucosa, que vuelve al músculo a través del Ciclo de C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1042920" y="2349360"/>
            <a:ext cx="7201080" cy="3894120"/>
            <a:chOff x="1042920" y="2349360"/>
            <a:chExt cx="7201080" cy="3894120"/>
          </a:xfrm>
        </p:grpSpPr>
        <p:grpSp>
          <p:nvGrpSpPr>
            <p:cNvPr id="368" name="Group 6"/>
            <p:cNvGrpSpPr/>
            <p:nvPr/>
          </p:nvGrpSpPr>
          <p:grpSpPr>
            <a:xfrm>
              <a:off x="1042920" y="2349360"/>
              <a:ext cx="7201080" cy="3894120"/>
              <a:chOff x="1042920" y="2349360"/>
              <a:chExt cx="7201080" cy="3894120"/>
            </a:xfrm>
          </p:grpSpPr>
          <p:pic>
            <p:nvPicPr>
              <p:cNvPr id="369" name="Picture 7" descr=""/>
              <p:cNvPicPr/>
              <p:nvPr/>
            </p:nvPicPr>
            <p:blipFill>
              <a:blip r:embed="rId1"/>
              <a:srcRect l="0" t="0" r="0" b="10531"/>
              <a:stretch/>
            </p:blipFill>
            <p:spPr>
              <a:xfrm>
                <a:off x="1042920" y="2349360"/>
                <a:ext cx="7201080" cy="389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Line 8"/>
              <p:cNvSpPr/>
              <p:nvPr/>
            </p:nvSpPr>
            <p:spPr>
              <a:xfrm flipH="1">
                <a:off x="3776040" y="4962960"/>
                <a:ext cx="1199880" cy="0"/>
              </a:xfrm>
              <a:prstGeom prst="line">
                <a:avLst/>
              </a:prstGeom>
              <a:ln w="1080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9"/>
            <p:cNvSpPr/>
            <p:nvPr/>
          </p:nvSpPr>
          <p:spPr>
            <a:xfrm>
              <a:off x="4844160" y="4772160"/>
              <a:ext cx="1267200" cy="76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10"/>
          <p:cNvSpPr/>
          <p:nvPr/>
        </p:nvSpPr>
        <p:spPr>
          <a:xfrm>
            <a:off x="4788000" y="4798440"/>
            <a:ext cx="13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iclo de C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2268360" y="3573360"/>
            <a:ext cx="6480360" cy="288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2"/>
          <p:cNvGrpSpPr/>
          <p:nvPr/>
        </p:nvGrpSpPr>
        <p:grpSpPr>
          <a:xfrm>
            <a:off x="7451640" y="5373720"/>
            <a:ext cx="424440" cy="393120"/>
            <a:chOff x="7451640" y="5373720"/>
            <a:chExt cx="424440" cy="393120"/>
          </a:xfrm>
        </p:grpSpPr>
        <p:sp>
          <p:nvSpPr>
            <p:cNvPr id="375" name="Text Box 13"/>
            <p:cNvSpPr/>
            <p:nvPr/>
          </p:nvSpPr>
          <p:spPr>
            <a:xfrm>
              <a:off x="7472880" y="53960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7451640" y="5443560"/>
              <a:ext cx="35892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 flipV="1">
              <a:off x="7523280" y="5373720"/>
              <a:ext cx="215640" cy="35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16"/>
          <p:cNvSpPr/>
          <p:nvPr/>
        </p:nvSpPr>
        <p:spPr>
          <a:xfrm>
            <a:off x="6443640" y="5086440"/>
            <a:ext cx="433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elula y mitocondria"/>
          <p:cNvPicPr/>
          <p:nvPr/>
        </p:nvPicPr>
        <p:blipFill>
          <a:blip r:embed="rId1"/>
          <a:srcRect l="0" t="0" r="20158" b="0"/>
          <a:stretch/>
        </p:blipFill>
        <p:spPr>
          <a:xfrm>
            <a:off x="1187280" y="806400"/>
            <a:ext cx="7056720" cy="550224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"/>
          <p:cNvGrpSpPr/>
          <p:nvPr/>
        </p:nvGrpSpPr>
        <p:grpSpPr>
          <a:xfrm>
            <a:off x="3148200" y="1052640"/>
            <a:ext cx="1552320" cy="1376280"/>
            <a:chOff x="3148200" y="1052640"/>
            <a:chExt cx="1552320" cy="1376280"/>
          </a:xfrm>
        </p:grpSpPr>
        <p:sp>
          <p:nvSpPr>
            <p:cNvPr id="381" name="Text Box 4"/>
            <p:cNvSpPr/>
            <p:nvPr/>
          </p:nvSpPr>
          <p:spPr>
            <a:xfrm>
              <a:off x="3246480" y="105264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>
              <a:off x="3922920" y="1341360"/>
              <a:ext cx="0" cy="7192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3148200" y="2060640"/>
              <a:ext cx="1552320" cy="368280"/>
            </a:xfrm>
            <a:prstGeom prst="rect">
              <a:avLst/>
            </a:prstGeom>
            <a:noFill/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 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3924000" y="1557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8"/>
          <p:cNvGrpSpPr/>
          <p:nvPr/>
        </p:nvGrpSpPr>
        <p:grpSpPr>
          <a:xfrm>
            <a:off x="5435640" y="2540160"/>
            <a:ext cx="1652040" cy="674640"/>
            <a:chOff x="5435640" y="2540160"/>
            <a:chExt cx="1652040" cy="674640"/>
          </a:xfrm>
        </p:grpSpPr>
        <p:sp>
          <p:nvSpPr>
            <p:cNvPr id="386" name="Text Box 9"/>
            <p:cNvSpPr/>
            <p:nvPr/>
          </p:nvSpPr>
          <p:spPr>
            <a:xfrm>
              <a:off x="5843160" y="28465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"/>
            <p:cNvSpPr/>
            <p:nvPr/>
          </p:nvSpPr>
          <p:spPr>
            <a:xfrm>
              <a:off x="5435640" y="2540160"/>
              <a:ext cx="53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1"/>
          <p:cNvGrpSpPr/>
          <p:nvPr/>
        </p:nvGrpSpPr>
        <p:grpSpPr>
          <a:xfrm>
            <a:off x="2294280" y="2511360"/>
            <a:ext cx="1497600" cy="774720"/>
            <a:chOff x="2294280" y="2511360"/>
            <a:chExt cx="1497600" cy="774720"/>
          </a:xfrm>
        </p:grpSpPr>
        <p:sp>
          <p:nvSpPr>
            <p:cNvPr id="389" name="Text Box 12"/>
            <p:cNvSpPr/>
            <p:nvPr/>
          </p:nvSpPr>
          <p:spPr>
            <a:xfrm>
              <a:off x="2294280" y="29178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Arial"/>
                </a:rPr>
                <a:t>Anaerobi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13"/>
            <p:cNvGrpSpPr/>
            <p:nvPr/>
          </p:nvGrpSpPr>
          <p:grpSpPr>
            <a:xfrm>
              <a:off x="2922120" y="2511360"/>
              <a:ext cx="517320" cy="556920"/>
              <a:chOff x="2922120" y="2511360"/>
              <a:chExt cx="517320" cy="556920"/>
            </a:xfrm>
          </p:grpSpPr>
          <p:sp>
            <p:nvSpPr>
              <p:cNvPr id="391" name="Text Box 14"/>
              <p:cNvSpPr/>
              <p:nvPr/>
            </p:nvSpPr>
            <p:spPr>
              <a:xfrm>
                <a:off x="2922120" y="251136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Group 15"/>
              <p:cNvGrpSpPr/>
              <p:nvPr/>
            </p:nvGrpSpPr>
            <p:grpSpPr>
              <a:xfrm>
                <a:off x="2946600" y="2573280"/>
                <a:ext cx="408600" cy="495000"/>
                <a:chOff x="2946600" y="2573280"/>
                <a:chExt cx="408600" cy="495000"/>
              </a:xfrm>
            </p:grpSpPr>
            <p:sp>
              <p:nvSpPr>
                <p:cNvPr id="393" name="Line 16"/>
                <p:cNvSpPr/>
                <p:nvPr/>
              </p:nvSpPr>
              <p:spPr>
                <a:xfrm>
                  <a:off x="2946600" y="2573280"/>
                  <a:ext cx="408600" cy="49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7"/>
                <p:cNvSpPr/>
                <p:nvPr/>
              </p:nvSpPr>
              <p:spPr>
                <a:xfrm flipH="1">
                  <a:off x="2947320" y="2573280"/>
                  <a:ext cx="407160" cy="43236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5" name="Text Box 18"/>
          <p:cNvSpPr/>
          <p:nvPr/>
        </p:nvSpPr>
        <p:spPr>
          <a:xfrm>
            <a:off x="2985840" y="389880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Alcohó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(levaduras, alg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80"/>
                </a:solidFill>
                <a:latin typeface="Arial"/>
              </a:rPr>
              <a:t>vertebrados mari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1317600" y="3933720"/>
            <a:ext cx="152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Ferment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L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(músculo en contracción vigorosa, eritrocitos, lactobaci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20"/>
          <p:cNvGrpSpPr/>
          <p:nvPr/>
        </p:nvGrpSpPr>
        <p:grpSpPr>
          <a:xfrm>
            <a:off x="3074400" y="2492280"/>
            <a:ext cx="1939320" cy="1342440"/>
            <a:chOff x="3074400" y="2492280"/>
            <a:chExt cx="1939320" cy="1342440"/>
          </a:xfrm>
        </p:grpSpPr>
        <p:sp>
          <p:nvSpPr>
            <p:cNvPr id="398" name="Line 21"/>
            <p:cNvSpPr/>
            <p:nvPr/>
          </p:nvSpPr>
          <p:spPr>
            <a:xfrm>
              <a:off x="3922920" y="2492280"/>
              <a:ext cx="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2"/>
            <p:cNvSpPr/>
            <p:nvPr/>
          </p:nvSpPr>
          <p:spPr>
            <a:xfrm>
              <a:off x="3074400" y="3429000"/>
              <a:ext cx="1939320" cy="405720"/>
            </a:xfrm>
            <a:prstGeom prst="rect">
              <a:avLst/>
            </a:pr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800080"/>
                  </a:solidFill>
                  <a:latin typeface="Arial"/>
                </a:rPr>
                <a:t>2 Etanol + 2 CO</a:t>
              </a:r>
              <a:r>
                <a:rPr b="1" lang="es-ES_tradnl" sz="18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3"/>
          <p:cNvGrpSpPr/>
          <p:nvPr/>
        </p:nvGrpSpPr>
        <p:grpSpPr>
          <a:xfrm>
            <a:off x="1528920" y="2421000"/>
            <a:ext cx="1602360" cy="1376280"/>
            <a:chOff x="1528920" y="2421000"/>
            <a:chExt cx="1602360" cy="1376280"/>
          </a:xfrm>
        </p:grpSpPr>
        <p:sp>
          <p:nvSpPr>
            <p:cNvPr id="401" name="Line 24"/>
            <p:cNvSpPr/>
            <p:nvPr/>
          </p:nvSpPr>
          <p:spPr>
            <a:xfrm flipH="1">
              <a:off x="1978920" y="2421000"/>
              <a:ext cx="1152360" cy="93672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5"/>
            <p:cNvSpPr/>
            <p:nvPr/>
          </p:nvSpPr>
          <p:spPr>
            <a:xfrm>
              <a:off x="1528920" y="3429000"/>
              <a:ext cx="1183680" cy="368280"/>
            </a:xfrm>
            <a:prstGeom prst="rect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ff"/>
                  </a:solidFill>
                  <a:latin typeface="Arial"/>
                </a:rPr>
                <a:t>2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6"/>
          <p:cNvGrpSpPr/>
          <p:nvPr/>
        </p:nvGrpSpPr>
        <p:grpSpPr>
          <a:xfrm>
            <a:off x="4643280" y="2421000"/>
            <a:ext cx="3150720" cy="2671200"/>
            <a:chOff x="4643280" y="2421000"/>
            <a:chExt cx="3150720" cy="2671200"/>
          </a:xfrm>
        </p:grpSpPr>
        <p:sp>
          <p:nvSpPr>
            <p:cNvPr id="404" name="Line 27"/>
            <p:cNvSpPr/>
            <p:nvPr/>
          </p:nvSpPr>
          <p:spPr>
            <a:xfrm>
              <a:off x="4643280" y="2421000"/>
              <a:ext cx="1657440" cy="936720"/>
            </a:xfrm>
            <a:prstGeom prst="line">
              <a:avLst/>
            </a:prstGeom>
            <a:ln w="442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8"/>
            <p:cNvSpPr/>
            <p:nvPr/>
          </p:nvSpPr>
          <p:spPr>
            <a:xfrm>
              <a:off x="5386680" y="3429000"/>
              <a:ext cx="24073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2 Acetil-CoA + 2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9"/>
            <p:cNvSpPr/>
            <p:nvPr/>
          </p:nvSpPr>
          <p:spPr>
            <a:xfrm>
              <a:off x="5607720" y="4686480"/>
              <a:ext cx="1591920" cy="40572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4 CO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+ 4 H</a:t>
              </a:r>
              <a:r>
                <a:rPr b="1" lang="es-ES_tradnl" sz="18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30"/>
            <p:cNvGrpSpPr/>
            <p:nvPr/>
          </p:nvGrpSpPr>
          <p:grpSpPr>
            <a:xfrm>
              <a:off x="6372000" y="3933720"/>
              <a:ext cx="648000" cy="719280"/>
              <a:chOff x="6372000" y="3933720"/>
              <a:chExt cx="648000" cy="719280"/>
            </a:xfrm>
          </p:grpSpPr>
          <p:sp>
            <p:nvSpPr>
              <p:cNvPr id="408" name="Line 31"/>
              <p:cNvSpPr/>
              <p:nvPr/>
            </p:nvSpPr>
            <p:spPr>
              <a:xfrm>
                <a:off x="6372000" y="393372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32"/>
              <p:cNvSpPr/>
              <p:nvPr/>
            </p:nvSpPr>
            <p:spPr>
              <a:xfrm>
                <a:off x="6445800" y="407664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33"/>
              <p:cNvSpPr/>
              <p:nvPr/>
            </p:nvSpPr>
            <p:spPr>
              <a:xfrm>
                <a:off x="6372000" y="3933720"/>
                <a:ext cx="648000" cy="647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Text Box 34"/>
          <p:cNvSpPr/>
          <p:nvPr/>
        </p:nvSpPr>
        <p:spPr>
          <a:xfrm>
            <a:off x="5435640" y="5229360"/>
            <a:ext cx="23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Células animales (excepción eritrocitos), vegetales y muchos microorganismos.</a:t>
            </a:r>
            <a:r>
              <a:rPr b="1" i="1" lang="es-ES_tradnl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5"/>
          <p:cNvSpPr/>
          <p:nvPr/>
        </p:nvSpPr>
        <p:spPr>
          <a:xfrm>
            <a:off x="533520" y="368280"/>
            <a:ext cx="81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¿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Cu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á</a:t>
            </a:r>
            <a:r>
              <a:rPr b="1" i="1" lang="es-ES_tradnl" sz="2000" spc="-1" strike="noStrike">
                <a:solidFill>
                  <a:srgbClr val="009999"/>
                </a:solidFill>
                <a:latin typeface="Arial"/>
              </a:rPr>
              <a:t>l es el destino del Piruvato según las condiciones celul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6"/>
          <p:cNvSpPr/>
          <p:nvPr/>
        </p:nvSpPr>
        <p:spPr>
          <a:xfrm>
            <a:off x="2700360" y="765000"/>
            <a:ext cx="2519280" cy="52563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7"/>
          <p:cNvSpPr/>
          <p:nvPr/>
        </p:nvSpPr>
        <p:spPr>
          <a:xfrm>
            <a:off x="4427640" y="2276640"/>
            <a:ext cx="43164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2352960" y="2080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Fosforilación de la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836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La fosforilación es el paso inicial de todas las vías de metabolización de monosacáridos, ya sea en animales como en veget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- Impide la difusión de la Glu hacia el exterior celular y asegura su utilización en alguna de las vías metabólicas celulares según el requerimiento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"/>
          <p:cNvGrpSpPr/>
          <p:nvPr/>
        </p:nvGrpSpPr>
        <p:grpSpPr>
          <a:xfrm>
            <a:off x="686520" y="5013360"/>
            <a:ext cx="4048200" cy="1655640"/>
            <a:chOff x="686520" y="5013360"/>
            <a:chExt cx="4048200" cy="1655640"/>
          </a:xfrm>
        </p:grpSpPr>
        <p:sp>
          <p:nvSpPr>
            <p:cNvPr id="80" name="Text Box 8"/>
            <p:cNvSpPr/>
            <p:nvPr/>
          </p:nvSpPr>
          <p:spPr>
            <a:xfrm>
              <a:off x="686520" y="56545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Hexoquin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9"/>
            <p:cNvSpPr/>
            <p:nvPr/>
          </p:nvSpPr>
          <p:spPr>
            <a:xfrm>
              <a:off x="2403360" y="5013360"/>
              <a:ext cx="216000" cy="16556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0"/>
            <p:cNvSpPr/>
            <p:nvPr/>
          </p:nvSpPr>
          <p:spPr>
            <a:xfrm>
              <a:off x="2618640" y="5105520"/>
              <a:ext cx="21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soenzimas I, II,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1"/>
            <p:cNvSpPr/>
            <p:nvPr/>
          </p:nvSpPr>
          <p:spPr>
            <a:xfrm>
              <a:off x="2548080" y="5942160"/>
              <a:ext cx="189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Isoenzima I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o Glucoquin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9"/>
          <p:cNvGrpSpPr/>
          <p:nvPr/>
        </p:nvGrpSpPr>
        <p:grpSpPr>
          <a:xfrm>
            <a:off x="4708440" y="4938840"/>
            <a:ext cx="3896640" cy="733320"/>
            <a:chOff x="4708440" y="4938840"/>
            <a:chExt cx="3896640" cy="733320"/>
          </a:xfrm>
        </p:grpSpPr>
        <p:sp>
          <p:nvSpPr>
            <p:cNvPr id="85" name="AutoShape 12"/>
            <p:cNvSpPr/>
            <p:nvPr/>
          </p:nvSpPr>
          <p:spPr>
            <a:xfrm>
              <a:off x="4708440" y="4940280"/>
              <a:ext cx="71640" cy="720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4768560" y="4938840"/>
              <a:ext cx="383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n distintas proporciones según el teji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Son inespecíf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Km Glu = 0.01-0.1 m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4564080" y="5867280"/>
            <a:ext cx="3621240" cy="733320"/>
            <a:chOff x="4564080" y="5867280"/>
            <a:chExt cx="3621240" cy="733320"/>
          </a:xfrm>
        </p:grpSpPr>
        <p:sp>
          <p:nvSpPr>
            <p:cNvPr id="88" name="Text Box 14"/>
            <p:cNvSpPr/>
            <p:nvPr/>
          </p:nvSpPr>
          <p:spPr>
            <a:xfrm>
              <a:off x="4624560" y="5867280"/>
              <a:ext cx="3560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n hígado y células beta del páncre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 muy espec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í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fica, solo D-Glucos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Km Glu = &gt;10 mM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5"/>
            <p:cNvSpPr/>
            <p:nvPr/>
          </p:nvSpPr>
          <p:spPr>
            <a:xfrm>
              <a:off x="4564080" y="5877000"/>
              <a:ext cx="71280" cy="720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16" descr="1 VG"/>
          <p:cNvPicPr/>
          <p:nvPr/>
        </p:nvPicPr>
        <p:blipFill>
          <a:blip r:embed="rId1"/>
          <a:srcRect l="0" t="3205" r="0" b="78626"/>
          <a:stretch/>
        </p:blipFill>
        <p:spPr>
          <a:xfrm>
            <a:off x="2268360" y="2459160"/>
            <a:ext cx="4680000" cy="226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7"/>
          <p:cNvSpPr/>
          <p:nvPr/>
        </p:nvSpPr>
        <p:spPr>
          <a:xfrm>
            <a:off x="4718880" y="3884760"/>
            <a:ext cx="1441080" cy="337320"/>
          </a:xfrm>
          <a:prstGeom prst="rect">
            <a:avLst/>
          </a:prstGeom>
          <a:solidFill>
            <a:srgbClr val="f2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Hexoqui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2555640" y="11484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B. Fermentación alcohólic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50920" y="601560"/>
            <a:ext cx="856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 las levaduras, el NAD</a:t>
            </a:r>
            <a:r>
              <a:rPr b="1" lang="es-ES" sz="1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se regenera en condiciones anaeróbicas mediante un proceso de gran importancia para la industria alimenticia: la conversión de piruvato a etanol y CO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68360" y="40384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La primer reacción es la descarboxilación del piruvato para formar acetalde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do y CO2, catalizada por la </a:t>
            </a:r>
            <a:r>
              <a:rPr b="1" i="1" lang="es-ES" sz="1800" spc="-1" strike="noStrike">
                <a:solidFill>
                  <a:srgbClr val="009999"/>
                </a:solidFill>
                <a:latin typeface="Arial"/>
              </a:rPr>
              <a:t>piruvato descarboxilas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(ausente en animales) y que contiene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irofosfato de tiamina (PPT)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como  grupo prostét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468360" y="53208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l acetalde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do formado por descarboxilación del piruvato es reducido luego a etanol por el NADH, en una reacción catalizada por la </a:t>
            </a:r>
            <a:r>
              <a:rPr b="1" i="1" lang="es-ES" sz="1800" spc="-1" strike="noStrike">
                <a:solidFill>
                  <a:srgbClr val="009999"/>
                </a:solidFill>
                <a:latin typeface="Arial"/>
              </a:rPr>
              <a:t>alcohol deshidrogenasa (ADH).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2124000" y="1628640"/>
            <a:ext cx="5112000" cy="2241720"/>
            <a:chOff x="2124000" y="1628640"/>
            <a:chExt cx="5112000" cy="2241720"/>
          </a:xfrm>
        </p:grpSpPr>
        <p:graphicFrame>
          <p:nvGraphicFramePr>
            <p:cNvPr id="421" name="Object 7"/>
            <p:cNvGraphicFramePr/>
            <p:nvPr/>
          </p:nvGraphicFramePr>
          <p:xfrm>
            <a:off x="2124000" y="1628640"/>
            <a:ext cx="5112000" cy="22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24000" y="1628640"/>
                      <a:ext cx="5112000" cy="22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3" name="Text Box 12"/>
            <p:cNvSpPr/>
            <p:nvPr/>
          </p:nvSpPr>
          <p:spPr>
            <a:xfrm>
              <a:off x="3185640" y="29685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Arial"/>
                </a:rPr>
                <a:t>P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248760" y="26028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alance energético de la vía glico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nta energía rinde un mol de glucosa en anaerobi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43"/>
          <p:cNvGrpSpPr/>
          <p:nvPr/>
        </p:nvGrpSpPr>
        <p:grpSpPr>
          <a:xfrm>
            <a:off x="250920" y="1839960"/>
            <a:ext cx="3740040" cy="4678920"/>
            <a:chOff x="250920" y="1839960"/>
            <a:chExt cx="3740040" cy="4678920"/>
          </a:xfrm>
        </p:grpSpPr>
        <p:grpSp>
          <p:nvGrpSpPr>
            <p:cNvPr id="426" name="Group 22"/>
            <p:cNvGrpSpPr/>
            <p:nvPr/>
          </p:nvGrpSpPr>
          <p:grpSpPr>
            <a:xfrm>
              <a:off x="2081160" y="1839960"/>
              <a:ext cx="1552320" cy="1376280"/>
              <a:chOff x="2081160" y="1839960"/>
              <a:chExt cx="1552320" cy="1376280"/>
            </a:xfrm>
          </p:grpSpPr>
          <p:sp>
            <p:nvSpPr>
              <p:cNvPr id="427" name="Text Box 23"/>
              <p:cNvSpPr/>
              <p:nvPr/>
            </p:nvSpPr>
            <p:spPr>
              <a:xfrm>
                <a:off x="2179440" y="1839960"/>
                <a:ext cx="13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GLUCO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24"/>
              <p:cNvSpPr/>
              <p:nvPr/>
            </p:nvSpPr>
            <p:spPr>
              <a:xfrm>
                <a:off x="2855880" y="2128680"/>
                <a:ext cx="0" cy="71928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25"/>
              <p:cNvSpPr/>
              <p:nvPr/>
            </p:nvSpPr>
            <p:spPr>
              <a:xfrm>
                <a:off x="2081160" y="2847960"/>
                <a:ext cx="1552320" cy="368280"/>
              </a:xfrm>
              <a:prstGeom prst="rect">
                <a:avLst/>
              </a:prstGeom>
              <a:noFill/>
              <a:ln w="316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2 PIRUV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6"/>
              <p:cNvSpPr/>
              <p:nvPr/>
            </p:nvSpPr>
            <p:spPr>
              <a:xfrm>
                <a:off x="2856960" y="234468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7"/>
            <p:cNvGrpSpPr/>
            <p:nvPr/>
          </p:nvGrpSpPr>
          <p:grpSpPr>
            <a:xfrm>
              <a:off x="1227600" y="3299040"/>
              <a:ext cx="1497600" cy="774360"/>
              <a:chOff x="1227600" y="3299040"/>
              <a:chExt cx="1497600" cy="774360"/>
            </a:xfrm>
          </p:grpSpPr>
          <p:sp>
            <p:nvSpPr>
              <p:cNvPr id="432" name="Text Box 28"/>
              <p:cNvSpPr/>
              <p:nvPr/>
            </p:nvSpPr>
            <p:spPr>
              <a:xfrm>
                <a:off x="1227600" y="3705120"/>
                <a:ext cx="149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naerobios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Group 29"/>
              <p:cNvGrpSpPr/>
              <p:nvPr/>
            </p:nvGrpSpPr>
            <p:grpSpPr>
              <a:xfrm>
                <a:off x="1855440" y="3299040"/>
                <a:ext cx="517320" cy="556560"/>
                <a:chOff x="1855440" y="3299040"/>
                <a:chExt cx="517320" cy="556560"/>
              </a:xfrm>
            </p:grpSpPr>
            <p:sp>
              <p:nvSpPr>
                <p:cNvPr id="434" name="Text Box 30"/>
                <p:cNvSpPr/>
                <p:nvPr/>
              </p:nvSpPr>
              <p:spPr>
                <a:xfrm>
                  <a:off x="1855440" y="3299040"/>
                  <a:ext cx="517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1" lang="es-ES_tradnl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31"/>
                <p:cNvGrpSpPr/>
                <p:nvPr/>
              </p:nvGrpSpPr>
              <p:grpSpPr>
                <a:xfrm>
                  <a:off x="1879920" y="3360960"/>
                  <a:ext cx="408600" cy="494640"/>
                  <a:chOff x="1879920" y="3360960"/>
                  <a:chExt cx="408600" cy="494640"/>
                </a:xfrm>
              </p:grpSpPr>
              <p:sp>
                <p:nvSpPr>
                  <p:cNvPr id="436" name="Line 32"/>
                  <p:cNvSpPr/>
                  <p:nvPr/>
                </p:nvSpPr>
                <p:spPr>
                  <a:xfrm>
                    <a:off x="1879920" y="3360960"/>
                    <a:ext cx="408600" cy="49464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33"/>
                  <p:cNvSpPr/>
                  <p:nvPr/>
                </p:nvSpPr>
                <p:spPr>
                  <a:xfrm flipH="1">
                    <a:off x="1880640" y="3360960"/>
                    <a:ext cx="407160" cy="4320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8" name="Text Box 34"/>
            <p:cNvSpPr/>
            <p:nvPr/>
          </p:nvSpPr>
          <p:spPr>
            <a:xfrm>
              <a:off x="1919160" y="4686480"/>
              <a:ext cx="20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Alcohó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(levaduras, algu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800080"/>
                  </a:solidFill>
                  <a:latin typeface="Arial"/>
                </a:rPr>
                <a:t>vertebrados marin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35"/>
            <p:cNvSpPr/>
            <p:nvPr/>
          </p:nvSpPr>
          <p:spPr>
            <a:xfrm>
              <a:off x="250920" y="4721400"/>
              <a:ext cx="15253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Ferment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Lác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(músculo en contracción vigorosa, eritrocitos, lactobacil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36"/>
            <p:cNvGrpSpPr/>
            <p:nvPr/>
          </p:nvGrpSpPr>
          <p:grpSpPr>
            <a:xfrm>
              <a:off x="2007720" y="3279960"/>
              <a:ext cx="1939320" cy="1342080"/>
              <a:chOff x="2007720" y="3279960"/>
              <a:chExt cx="1939320" cy="1342080"/>
            </a:xfrm>
          </p:grpSpPr>
          <p:sp>
            <p:nvSpPr>
              <p:cNvPr id="441" name="Line 37"/>
              <p:cNvSpPr/>
              <p:nvPr/>
            </p:nvSpPr>
            <p:spPr>
              <a:xfrm>
                <a:off x="2855880" y="3279960"/>
                <a:ext cx="0" cy="93636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38"/>
              <p:cNvSpPr/>
              <p:nvPr/>
            </p:nvSpPr>
            <p:spPr>
              <a:xfrm>
                <a:off x="2007720" y="4216320"/>
                <a:ext cx="1939320" cy="405720"/>
              </a:xfrm>
              <a:prstGeom prst="rect">
                <a:avLst/>
              </a:prstGeom>
              <a:noFill/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0080"/>
                    </a:solidFill>
                    <a:latin typeface="Arial"/>
                  </a:rPr>
                  <a:t>2 Etanol + 2 CO</a:t>
                </a:r>
                <a:r>
                  <a:rPr b="1" lang="es-ES_tradnl" sz="1800" spc="-1" strike="noStrike" baseline="-25000">
                    <a:solidFill>
                      <a:srgbClr val="800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39"/>
            <p:cNvGrpSpPr/>
            <p:nvPr/>
          </p:nvGrpSpPr>
          <p:grpSpPr>
            <a:xfrm>
              <a:off x="462240" y="3208320"/>
              <a:ext cx="1602360" cy="1376280"/>
              <a:chOff x="462240" y="3208320"/>
              <a:chExt cx="1602360" cy="1376280"/>
            </a:xfrm>
          </p:grpSpPr>
          <p:sp>
            <p:nvSpPr>
              <p:cNvPr id="444" name="Line 40"/>
              <p:cNvSpPr/>
              <p:nvPr/>
            </p:nvSpPr>
            <p:spPr>
              <a:xfrm flipH="1">
                <a:off x="912240" y="3208320"/>
                <a:ext cx="1152360" cy="93672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41"/>
              <p:cNvSpPr/>
              <p:nvPr/>
            </p:nvSpPr>
            <p:spPr>
              <a:xfrm>
                <a:off x="462240" y="4216320"/>
                <a:ext cx="1183680" cy="368280"/>
              </a:xfrm>
              <a:prstGeom prst="rect">
                <a:avLst/>
              </a:prstGeom>
              <a:noFill/>
              <a:ln w="31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ff"/>
                    </a:solidFill>
                    <a:latin typeface="Arial"/>
                  </a:rPr>
                  <a:t>2 Lacta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Text Box 44"/>
          <p:cNvSpPr/>
          <p:nvPr/>
        </p:nvSpPr>
        <p:spPr>
          <a:xfrm>
            <a:off x="3853800" y="1787400"/>
            <a:ext cx="426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sto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Hexo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…….............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osfofructo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………..… -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ción de AT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osfoglicerato 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…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iruvato quina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………... + 1ATP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7"/>
          <p:cNvGrpSpPr/>
          <p:nvPr/>
        </p:nvGrpSpPr>
        <p:grpSpPr>
          <a:xfrm>
            <a:off x="8028000" y="3135240"/>
            <a:ext cx="1036800" cy="720720"/>
            <a:chOff x="8028000" y="3135240"/>
            <a:chExt cx="1036800" cy="720720"/>
          </a:xfrm>
        </p:grpSpPr>
        <p:sp>
          <p:nvSpPr>
            <p:cNvPr id="448" name="AutoShape 45"/>
            <p:cNvSpPr/>
            <p:nvPr/>
          </p:nvSpPr>
          <p:spPr>
            <a:xfrm>
              <a:off x="8028000" y="3135240"/>
              <a:ext cx="142920" cy="72072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6"/>
            <p:cNvSpPr/>
            <p:nvPr/>
          </p:nvSpPr>
          <p:spPr>
            <a:xfrm>
              <a:off x="8102160" y="3344760"/>
              <a:ext cx="96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4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9"/>
          <p:cNvGrpSpPr/>
          <p:nvPr/>
        </p:nvGrpSpPr>
        <p:grpSpPr>
          <a:xfrm>
            <a:off x="7997760" y="2055960"/>
            <a:ext cx="979200" cy="720720"/>
            <a:chOff x="7997760" y="2055960"/>
            <a:chExt cx="979200" cy="720720"/>
          </a:xfrm>
        </p:grpSpPr>
        <p:sp>
          <p:nvSpPr>
            <p:cNvPr id="451" name="AutoShape 50"/>
            <p:cNvSpPr/>
            <p:nvPr/>
          </p:nvSpPr>
          <p:spPr>
            <a:xfrm>
              <a:off x="7997760" y="2055960"/>
              <a:ext cx="142920" cy="720720"/>
            </a:xfrm>
            <a:custGeom>
              <a:avLst/>
              <a:gdLst>
                <a:gd name="textAreaLeft" fmla="*/ 0 w 142920"/>
                <a:gd name="textAreaRight" fmla="*/ 51480 w 14292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51"/>
            <p:cNvSpPr/>
            <p:nvPr/>
          </p:nvSpPr>
          <p:spPr>
            <a:xfrm>
              <a:off x="8072280" y="22654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 2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53"/>
          <p:cNvGrpSpPr/>
          <p:nvPr/>
        </p:nvGrpSpPr>
        <p:grpSpPr>
          <a:xfrm>
            <a:off x="3780000" y="3927600"/>
            <a:ext cx="5219640" cy="512640"/>
            <a:chOff x="3780000" y="3927600"/>
            <a:chExt cx="5219640" cy="512640"/>
          </a:xfrm>
        </p:grpSpPr>
        <p:sp>
          <p:nvSpPr>
            <p:cNvPr id="454" name="Text Box 48"/>
            <p:cNvSpPr/>
            <p:nvPr/>
          </p:nvSpPr>
          <p:spPr>
            <a:xfrm>
              <a:off x="4118760" y="4071960"/>
              <a:ext cx="46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alance o rendimiento en ATP:     +2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2"/>
            <p:cNvSpPr/>
            <p:nvPr/>
          </p:nvSpPr>
          <p:spPr>
            <a:xfrm>
              <a:off x="3780000" y="3927600"/>
              <a:ext cx="521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3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3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3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30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30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3516480" y="3351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834200" y="27936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una célula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3711960" y="1773360"/>
            <a:ext cx="3071520" cy="1295280"/>
            <a:chOff x="3711960" y="1773360"/>
            <a:chExt cx="3071520" cy="1295280"/>
          </a:xfrm>
        </p:grpSpPr>
        <p:sp>
          <p:nvSpPr>
            <p:cNvPr id="459" name="Text Box 5"/>
            <p:cNvSpPr/>
            <p:nvPr/>
          </p:nvSpPr>
          <p:spPr>
            <a:xfrm>
              <a:off x="4479840" y="227196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ógeno-gén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hígado y músculo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6"/>
            <p:cNvSpPr/>
            <p:nvPr/>
          </p:nvSpPr>
          <p:spPr>
            <a:xfrm>
              <a:off x="3711960" y="17733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ó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"/>
            <p:cNvSpPr/>
            <p:nvPr/>
          </p:nvSpPr>
          <p:spPr>
            <a:xfrm>
              <a:off x="4213080" y="2132280"/>
              <a:ext cx="287640" cy="936360"/>
            </a:xfrm>
            <a:prstGeom prst="upArrow">
              <a:avLst>
                <a:gd name="adj1" fmla="val 50000"/>
                <a:gd name="adj2" fmla="val 8138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8"/>
          <p:cNvGrpSpPr/>
          <p:nvPr/>
        </p:nvGrpSpPr>
        <p:grpSpPr>
          <a:xfrm>
            <a:off x="5244840" y="3129120"/>
            <a:ext cx="3212640" cy="596880"/>
            <a:chOff x="5244840" y="3129120"/>
            <a:chExt cx="3212640" cy="596880"/>
          </a:xfrm>
        </p:grpSpPr>
        <p:sp>
          <p:nvSpPr>
            <p:cNvPr id="463" name="Text Box 9"/>
            <p:cNvSpPr/>
            <p:nvPr/>
          </p:nvSpPr>
          <p:spPr>
            <a:xfrm>
              <a:off x="5244840" y="312912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7083360" y="3357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1"/>
            <p:cNvSpPr/>
            <p:nvPr/>
          </p:nvSpPr>
          <p:spPr>
            <a:xfrm>
              <a:off x="5508360" y="3427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2"/>
          <p:cNvGrpSpPr/>
          <p:nvPr/>
        </p:nvGrpSpPr>
        <p:grpSpPr>
          <a:xfrm>
            <a:off x="3853080" y="3932280"/>
            <a:ext cx="2231280" cy="1370160"/>
            <a:chOff x="3853080" y="3932280"/>
            <a:chExt cx="2231280" cy="1370160"/>
          </a:xfrm>
        </p:grpSpPr>
        <p:sp>
          <p:nvSpPr>
            <p:cNvPr id="467" name="Text Box 13"/>
            <p:cNvSpPr/>
            <p:nvPr/>
          </p:nvSpPr>
          <p:spPr>
            <a:xfrm>
              <a:off x="3853080" y="4934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4"/>
            <p:cNvSpPr/>
            <p:nvPr/>
          </p:nvSpPr>
          <p:spPr>
            <a:xfrm>
              <a:off x="4402440" y="4221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5"/>
            <p:cNvSpPr/>
            <p:nvPr/>
          </p:nvSpPr>
          <p:spPr>
            <a:xfrm>
              <a:off x="4211640" y="3932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6"/>
          <p:cNvGrpSpPr/>
          <p:nvPr/>
        </p:nvGrpSpPr>
        <p:grpSpPr>
          <a:xfrm>
            <a:off x="541800" y="3139920"/>
            <a:ext cx="3109320" cy="916920"/>
            <a:chOff x="541800" y="3139920"/>
            <a:chExt cx="3109320" cy="916920"/>
          </a:xfrm>
        </p:grpSpPr>
        <p:sp>
          <p:nvSpPr>
            <p:cNvPr id="471" name="Text Box 17"/>
            <p:cNvSpPr/>
            <p:nvPr/>
          </p:nvSpPr>
          <p:spPr>
            <a:xfrm>
              <a:off x="541800" y="33577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8"/>
            <p:cNvSpPr/>
            <p:nvPr/>
          </p:nvSpPr>
          <p:spPr>
            <a:xfrm>
              <a:off x="1619280" y="3427560"/>
              <a:ext cx="1657080" cy="288720"/>
            </a:xfrm>
            <a:prstGeom prst="leftArrow">
              <a:avLst>
                <a:gd name="adj1" fmla="val 59343"/>
                <a:gd name="adj2" fmla="val 9839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9"/>
            <p:cNvSpPr/>
            <p:nvPr/>
          </p:nvSpPr>
          <p:spPr>
            <a:xfrm>
              <a:off x="1260360" y="3139920"/>
              <a:ext cx="239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Glucosa-6-fosfat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(solo en hígad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Oval 20"/>
          <p:cNvSpPr/>
          <p:nvPr/>
        </p:nvSpPr>
        <p:spPr>
          <a:xfrm>
            <a:off x="3276720" y="2852640"/>
            <a:ext cx="2232000" cy="302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3229200" y="3567240"/>
            <a:ext cx="175500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UCOSA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1762920" y="1890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Destinos metabólicos de la glu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Arial"/>
              </a:rPr>
              <a:t>en una célula veg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5207040" y="270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5"/>
          <p:cNvGrpSpPr/>
          <p:nvPr/>
        </p:nvGrpSpPr>
        <p:grpSpPr>
          <a:xfrm>
            <a:off x="3516120" y="1700280"/>
            <a:ext cx="1194120" cy="1584360"/>
            <a:chOff x="3516120" y="1700280"/>
            <a:chExt cx="1194120" cy="1584360"/>
          </a:xfrm>
        </p:grpSpPr>
        <p:sp>
          <p:nvSpPr>
            <p:cNvPr id="479" name="Text Box 6"/>
            <p:cNvSpPr/>
            <p:nvPr/>
          </p:nvSpPr>
          <p:spPr>
            <a:xfrm>
              <a:off x="3516120" y="1700280"/>
              <a:ext cx="11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Sacar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7"/>
            <p:cNvSpPr/>
            <p:nvPr/>
          </p:nvSpPr>
          <p:spPr>
            <a:xfrm>
              <a:off x="3925440" y="2347920"/>
              <a:ext cx="287280" cy="936720"/>
            </a:xfrm>
            <a:prstGeom prst="upArrow">
              <a:avLst>
                <a:gd name="adj1" fmla="val 50000"/>
                <a:gd name="adj2" fmla="val 8151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8"/>
          <p:cNvGrpSpPr/>
          <p:nvPr/>
        </p:nvGrpSpPr>
        <p:grpSpPr>
          <a:xfrm>
            <a:off x="4776480" y="3284640"/>
            <a:ext cx="3393720" cy="657360"/>
            <a:chOff x="4776480" y="3284640"/>
            <a:chExt cx="3393720" cy="657360"/>
          </a:xfrm>
        </p:grpSpPr>
        <p:sp>
          <p:nvSpPr>
            <p:cNvPr id="482" name="Text Box 9"/>
            <p:cNvSpPr/>
            <p:nvPr/>
          </p:nvSpPr>
          <p:spPr>
            <a:xfrm>
              <a:off x="4776480" y="32846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de las P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6796080" y="357372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Ribosa-5-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1"/>
            <p:cNvSpPr/>
            <p:nvPr/>
          </p:nvSpPr>
          <p:spPr>
            <a:xfrm>
              <a:off x="5221080" y="3643560"/>
              <a:ext cx="1584360" cy="288720"/>
            </a:xfrm>
            <a:prstGeom prst="rightArrow">
              <a:avLst>
                <a:gd name="adj1" fmla="val 49454"/>
                <a:gd name="adj2" fmla="val 8688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2"/>
          <p:cNvGrpSpPr/>
          <p:nvPr/>
        </p:nvGrpSpPr>
        <p:grpSpPr>
          <a:xfrm>
            <a:off x="3565800" y="4148280"/>
            <a:ext cx="2231280" cy="1370160"/>
            <a:chOff x="3565800" y="4148280"/>
            <a:chExt cx="2231280" cy="1370160"/>
          </a:xfrm>
        </p:grpSpPr>
        <p:sp>
          <p:nvSpPr>
            <p:cNvPr id="486" name="Text Box 13"/>
            <p:cNvSpPr/>
            <p:nvPr/>
          </p:nvSpPr>
          <p:spPr>
            <a:xfrm>
              <a:off x="3565800" y="515016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00"/>
                  </a:solidFill>
                  <a:latin typeface="Arial"/>
                </a:rPr>
                <a:t>Piruv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4115160" y="443736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a Glicol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  <a:ea typeface="Arial"/>
                </a:rPr>
                <a:t>í</a:t>
              </a:r>
              <a:r>
                <a:rPr b="1" lang="es-ES_tradnl" sz="1800" spc="-1" strike="noStrike">
                  <a:solidFill>
                    <a:srgbClr val="009999"/>
                  </a:solidFill>
                  <a:latin typeface="Arial"/>
                </a:rPr>
                <a:t>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5"/>
            <p:cNvSpPr/>
            <p:nvPr/>
          </p:nvSpPr>
          <p:spPr>
            <a:xfrm>
              <a:off x="3924360" y="4148280"/>
              <a:ext cx="289080" cy="1008000"/>
            </a:xfrm>
            <a:prstGeom prst="downArrow">
              <a:avLst>
                <a:gd name="adj1" fmla="val 50000"/>
                <a:gd name="adj2" fmla="val 8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Oval 16"/>
          <p:cNvSpPr/>
          <p:nvPr/>
        </p:nvSpPr>
        <p:spPr>
          <a:xfrm>
            <a:off x="2989440" y="3068640"/>
            <a:ext cx="2232000" cy="30243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7"/>
          <p:cNvGrpSpPr/>
          <p:nvPr/>
        </p:nvGrpSpPr>
        <p:grpSpPr>
          <a:xfrm>
            <a:off x="4861080" y="144360"/>
            <a:ext cx="3958560" cy="6597360"/>
            <a:chOff x="4861080" y="144360"/>
            <a:chExt cx="3958560" cy="6597360"/>
          </a:xfrm>
        </p:grpSpPr>
        <p:pic>
          <p:nvPicPr>
            <p:cNvPr id="491" name="Picture 2" descr="8 Regulacion VG"/>
            <p:cNvPicPr/>
            <p:nvPr/>
          </p:nvPicPr>
          <p:blipFill>
            <a:blip r:embed="rId1"/>
            <a:stretch/>
          </p:blipFill>
          <p:spPr>
            <a:xfrm>
              <a:off x="4861080" y="144360"/>
              <a:ext cx="3958560" cy="65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3"/>
            <p:cNvSpPr/>
            <p:nvPr/>
          </p:nvSpPr>
          <p:spPr>
            <a:xfrm>
              <a:off x="5595480" y="2625480"/>
              <a:ext cx="30348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4"/>
            <p:cNvSpPr/>
            <p:nvPr/>
          </p:nvSpPr>
          <p:spPr>
            <a:xfrm>
              <a:off x="6420600" y="4389120"/>
              <a:ext cx="30348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5"/>
            <p:cNvSpPr/>
            <p:nvPr/>
          </p:nvSpPr>
          <p:spPr>
            <a:xfrm>
              <a:off x="7797240" y="4386960"/>
              <a:ext cx="68436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cetil-Co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6"/>
            <p:cNvSpPr/>
            <p:nvPr/>
          </p:nvSpPr>
          <p:spPr>
            <a:xfrm>
              <a:off x="6266880" y="1391400"/>
              <a:ext cx="384120" cy="24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i  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8"/>
          <p:cNvSpPr/>
          <p:nvPr/>
        </p:nvSpPr>
        <p:spPr>
          <a:xfrm>
            <a:off x="176400" y="333360"/>
            <a:ext cx="46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Regulación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846360" y="3933720"/>
            <a:ext cx="322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Hex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F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Fosfofructo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K: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iruvato qui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231840" y="907920"/>
            <a:ext cx="448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velocidad de la glucólisis depende de la disponibilidad de sustrato y el estado de oxidorreducción de la célula. Se requieren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GLU, ADP, Pi, y NAD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proceso general es controlado por los niveles de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NADH/NAD+ y piruvato/lact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articular, existen tres puntos de control en la via glicoli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4859280" y="836640"/>
            <a:ext cx="3960720" cy="14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4859280" y="2276640"/>
            <a:ext cx="396072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4859280" y="3429000"/>
            <a:ext cx="3960720" cy="20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303120" y="4975200"/>
            <a:ext cx="42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En todos estos puntos la insulina actúa activando, mientras que el gluc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 lo hace inhibiendo, la actividad enzi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6 Control por F-2,6-diP"/>
          <p:cNvPicPr/>
          <p:nvPr/>
        </p:nvPicPr>
        <p:blipFill>
          <a:blip r:embed="rId1"/>
          <a:srcRect l="0" t="55801" r="0" b="0"/>
          <a:stretch/>
        </p:blipFill>
        <p:spPr>
          <a:xfrm>
            <a:off x="1116000" y="1844640"/>
            <a:ext cx="6983280" cy="23860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755640" y="4471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umenta afinidad por F-6-P y disminuye la inhibición po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755640" y="62064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¿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ó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mo regula la glucólisis la Fru-2,6-difosfa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0"/>
          <p:cNvGrpSpPr/>
          <p:nvPr/>
        </p:nvGrpSpPr>
        <p:grpSpPr>
          <a:xfrm>
            <a:off x="900000" y="981000"/>
            <a:ext cx="7201080" cy="5607000"/>
            <a:chOff x="900000" y="981000"/>
            <a:chExt cx="7201080" cy="5607000"/>
          </a:xfrm>
        </p:grpSpPr>
        <p:pic>
          <p:nvPicPr>
            <p:cNvPr id="507" name="Picture 2" descr="7 Regulacion PK"/>
            <p:cNvPicPr/>
            <p:nvPr/>
          </p:nvPicPr>
          <p:blipFill>
            <a:blip r:embed="rId1"/>
            <a:stretch/>
          </p:blipFill>
          <p:spPr>
            <a:xfrm>
              <a:off x="900000" y="981000"/>
              <a:ext cx="720108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6"/>
            <p:cNvSpPr/>
            <p:nvPr/>
          </p:nvSpPr>
          <p:spPr>
            <a:xfrm>
              <a:off x="1474920" y="3645000"/>
              <a:ext cx="187308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↑↑ 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Insul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7"/>
            <p:cNvSpPr/>
            <p:nvPr/>
          </p:nvSpPr>
          <p:spPr>
            <a:xfrm>
              <a:off x="6516720" y="3573360"/>
              <a:ext cx="151272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↑ 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Glucag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3"/>
          <p:cNvSpPr/>
          <p:nvPr/>
        </p:nvSpPr>
        <p:spPr>
          <a:xfrm>
            <a:off x="879480" y="4237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Algo m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á</a:t>
            </a:r>
            <a:r>
              <a:rPr b="1" lang="es-ES_tradnl" sz="2400" spc="-1" strike="noStrike">
                <a:solidFill>
                  <a:srgbClr val="800080"/>
                </a:solidFill>
                <a:latin typeface="Arial"/>
              </a:rPr>
              <a:t>s sobre la Piruvato quina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1"/>
          <p:cNvGrpSpPr/>
          <p:nvPr/>
        </p:nvGrpSpPr>
        <p:grpSpPr>
          <a:xfrm>
            <a:off x="3311280" y="3494160"/>
            <a:ext cx="1649520" cy="459360"/>
            <a:chOff x="3311280" y="3494160"/>
            <a:chExt cx="1649520" cy="459360"/>
          </a:xfrm>
        </p:grpSpPr>
        <p:sp>
          <p:nvSpPr>
            <p:cNvPr id="512" name="Text Box 4"/>
            <p:cNvSpPr/>
            <p:nvPr/>
          </p:nvSpPr>
          <p:spPr>
            <a:xfrm>
              <a:off x="3835080" y="3616200"/>
              <a:ext cx="11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osfa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8"/>
            <p:cNvSpPr/>
            <p:nvPr/>
          </p:nvSpPr>
          <p:spPr>
            <a:xfrm>
              <a:off x="3311280" y="3494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2"/>
          <p:cNvGrpSpPr/>
          <p:nvPr/>
        </p:nvGrpSpPr>
        <p:grpSpPr>
          <a:xfrm>
            <a:off x="5222880" y="3494160"/>
            <a:ext cx="1401840" cy="488160"/>
            <a:chOff x="5222880" y="3494160"/>
            <a:chExt cx="1401840" cy="488160"/>
          </a:xfrm>
        </p:grpSpPr>
        <p:sp>
          <p:nvSpPr>
            <p:cNvPr id="515" name="Text Box 5"/>
            <p:cNvSpPr/>
            <p:nvPr/>
          </p:nvSpPr>
          <p:spPr>
            <a:xfrm>
              <a:off x="5222880" y="36450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9"/>
            <p:cNvSpPr/>
            <p:nvPr/>
          </p:nvSpPr>
          <p:spPr>
            <a:xfrm>
              <a:off x="6157440" y="34941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(+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29 Metab de Fru"/>
          <p:cNvPicPr/>
          <p:nvPr/>
        </p:nvPicPr>
        <p:blipFill>
          <a:blip r:embed="rId1"/>
          <a:srcRect l="0" t="1404" r="0" b="11117"/>
          <a:stretch/>
        </p:blipFill>
        <p:spPr>
          <a:xfrm>
            <a:off x="2970360" y="549360"/>
            <a:ext cx="5562360" cy="5832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324000" y="26028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.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Fru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3059280" y="126828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7"/>
          <p:cNvSpPr/>
          <p:nvPr/>
        </p:nvSpPr>
        <p:spPr>
          <a:xfrm>
            <a:off x="7596360" y="1341360"/>
            <a:ext cx="792000" cy="505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8"/>
          <p:cNvSpPr/>
          <p:nvPr/>
        </p:nvSpPr>
        <p:spPr>
          <a:xfrm>
            <a:off x="5292720" y="191628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6300720" y="2349360"/>
            <a:ext cx="935280" cy="432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0"/>
          <p:cNvSpPr/>
          <p:nvPr/>
        </p:nvSpPr>
        <p:spPr>
          <a:xfrm>
            <a:off x="5942160" y="378792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6012000" y="4510080"/>
            <a:ext cx="136836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3"/>
          <p:cNvSpPr/>
          <p:nvPr/>
        </p:nvSpPr>
        <p:spPr>
          <a:xfrm>
            <a:off x="4067280" y="1989000"/>
            <a:ext cx="9349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3276720" y="2492280"/>
            <a:ext cx="934920" cy="216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7"/>
          <p:cNvGrpSpPr/>
          <p:nvPr/>
        </p:nvGrpSpPr>
        <p:grpSpPr>
          <a:xfrm>
            <a:off x="1258920" y="1125360"/>
            <a:ext cx="6769080" cy="5424840"/>
            <a:chOff x="1258920" y="1125360"/>
            <a:chExt cx="6769080" cy="5424840"/>
          </a:xfrm>
        </p:grpSpPr>
        <p:pic>
          <p:nvPicPr>
            <p:cNvPr id="528" name="Picture 4" descr="31 metab de Gal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769080" cy="54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Rectangle 6"/>
            <p:cNvSpPr/>
            <p:nvPr/>
          </p:nvSpPr>
          <p:spPr>
            <a:xfrm>
              <a:off x="1258920" y="2492280"/>
              <a:ext cx="2735280" cy="165744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5"/>
          <p:cNvSpPr/>
          <p:nvPr/>
        </p:nvSpPr>
        <p:spPr>
          <a:xfrm>
            <a:off x="250920" y="260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Degradación de otros az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ú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cares a través de la vía glicol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660066"/>
                </a:solidFill>
                <a:latin typeface="Arial"/>
              </a:rPr>
              <a:t>tica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Ga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1763640" y="1916280"/>
            <a:ext cx="93528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2700360" y="2203560"/>
            <a:ext cx="122400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0"/>
          <p:cNvSpPr/>
          <p:nvPr/>
        </p:nvSpPr>
        <p:spPr>
          <a:xfrm>
            <a:off x="4859280" y="263700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4067280" y="335772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4067280" y="4724280"/>
            <a:ext cx="1225440" cy="4334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5867280" y="3357720"/>
            <a:ext cx="122580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6804000" y="2637000"/>
            <a:ext cx="12970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4140360" y="1916280"/>
            <a:ext cx="1225440" cy="4316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4140360" y="5661000"/>
            <a:ext cx="1079280" cy="361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5796000" y="1916280"/>
            <a:ext cx="1225440" cy="433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539640" y="81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11280" y="1341360"/>
            <a:ext cx="770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BLANCO A., “Química Biológica”, Ed. El Ateneo, 8a edic., Bs. As. (20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LEHNINGER, A.L., "Principios de Bioquímica", Ed. Omega, 4ª ed. (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- LIM M.Y., “ Lo esencial en Metabolismo y Nutrición”, Ed. Elsevier, 3ra. ed., Barcelona (201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Compleme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- CAMPBELL Y FARREL, “Bioquimica”, Thomson Eds., 4ta. Ed., (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NALD NICHOLSON, International Union of Biochemistry &amp; Molecular Biology (IUBMB), IUBMB-Nicholson Metabolic Maps, Minimaps &amp; Animaps. Department of Biochemistry and Microbiology, The University, Leeds, England. (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ttp://www.iubmb-nicholson.or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ISBURY Y ROSS, “Fisiología vegetal”, Grupo Ed. Iberoamericana, (199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- HILL, WYSE Y ANDERSON, “Fisiología animal”, Ed. Med. Panamericana,(2006), Madrid,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7"/>
          <p:cNvGraphicFramePr/>
          <p:nvPr/>
        </p:nvGraphicFramePr>
        <p:xfrm>
          <a:off x="2122560" y="1492200"/>
          <a:ext cx="51134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1492200"/>
                    <a:ext cx="5113440" cy="2222640"/>
                  </a:xfrm>
                  <a:prstGeom prst="rect">
                    <a:avLst/>
                  </a:prstGeom>
                  <a:ln w="9360">
                    <a:solidFill>
                      <a:srgbClr val="99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Rectangle 6"/>
          <p:cNvSpPr/>
          <p:nvPr/>
        </p:nvSpPr>
        <p:spPr>
          <a:xfrm>
            <a:off x="1692360" y="449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Fosforilación intracelular de la gl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Die Struktur von ATP, ADP und AMP"/>
          <p:cNvPicPr/>
          <p:nvPr/>
        </p:nvPicPr>
        <p:blipFill>
          <a:blip r:embed="rId3"/>
          <a:stretch/>
        </p:blipFill>
        <p:spPr>
          <a:xfrm>
            <a:off x="2050920" y="3868560"/>
            <a:ext cx="2381400" cy="2152800"/>
          </a:xfrm>
          <a:prstGeom prst="rect">
            <a:avLst/>
          </a:prstGeom>
          <a:ln w="0">
            <a:noFill/>
          </a:ln>
        </p:spPr>
      </p:pic>
      <p:sp>
        <p:nvSpPr>
          <p:cNvPr id="96" name="Oval 11"/>
          <p:cNvSpPr/>
          <p:nvPr/>
        </p:nvSpPr>
        <p:spPr>
          <a:xfrm>
            <a:off x="3708360" y="4229280"/>
            <a:ext cx="790560" cy="718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rc 12"/>
          <p:cNvSpPr/>
          <p:nvPr/>
        </p:nvSpPr>
        <p:spPr>
          <a:xfrm flipV="1" rot="20507400">
            <a:off x="3924360" y="1496160"/>
            <a:ext cx="685800" cy="2880360"/>
          </a:xfrm>
          <a:custGeom>
            <a:avLst/>
            <a:gdLst>
              <a:gd name="textAreaLeft" fmla="*/ 0 w 685800"/>
              <a:gd name="textAreaRight" fmla="*/ 686160 w 685800"/>
              <a:gd name="textAreaTop" fmla="*/ 0 h 2880360"/>
              <a:gd name="textAreaBottom" fmla="*/ 2880360 h 2880360"/>
            </a:gdLst>
            <a:ahLst/>
            <a:rect l="textAreaLeft" t="textAreaTop" r="textAreaRight" b="textAreaBottom"/>
            <a:pathLst>
              <a:path fill="none" w="22890" h="43200">
                <a:moveTo>
                  <a:pt x="1289" y="0"/>
                </a:moveTo>
                <a:cubicBezTo>
                  <a:pt x="13219" y="0"/>
                  <a:pt x="22890" y="9670"/>
                  <a:pt x="22890" y="21600"/>
                </a:cubicBezTo>
                <a:cubicBezTo>
                  <a:pt x="22890" y="33529"/>
                  <a:pt x="13219" y="43200"/>
                  <a:pt x="1290" y="43200"/>
                </a:cubicBezTo>
                <a:cubicBezTo>
                  <a:pt x="859" y="43200"/>
                  <a:pt x="429" y="43187"/>
                  <a:pt x="-1" y="43161"/>
                </a:cubicBezTo>
              </a:path>
              <a:path stroke="0" w="22890" h="43200">
                <a:moveTo>
                  <a:pt x="1289" y="0"/>
                </a:moveTo>
                <a:cubicBezTo>
                  <a:pt x="13219" y="0"/>
                  <a:pt x="22890" y="9670"/>
                  <a:pt x="22890" y="21600"/>
                </a:cubicBezTo>
                <a:cubicBezTo>
                  <a:pt x="22890" y="33529"/>
                  <a:pt x="13219" y="43200"/>
                  <a:pt x="1290" y="43200"/>
                </a:cubicBezTo>
                <a:cubicBezTo>
                  <a:pt x="859" y="43200"/>
                  <a:pt x="429" y="43187"/>
                  <a:pt x="-1" y="43161"/>
                </a:cubicBezTo>
                <a:lnTo>
                  <a:pt x="1290" y="21600"/>
                </a:lnTo>
                <a:lnTo>
                  <a:pt x="1289" y="0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Die Struktur von ATP, ADP und AMP"/>
          <p:cNvPicPr/>
          <p:nvPr/>
        </p:nvPicPr>
        <p:blipFill>
          <a:blip r:embed="rId4"/>
          <a:srcRect l="0" t="0" r="21330" b="13060"/>
          <a:stretch/>
        </p:blipFill>
        <p:spPr>
          <a:xfrm>
            <a:off x="4930920" y="3868560"/>
            <a:ext cx="1873080" cy="1872000"/>
          </a:xfrm>
          <a:prstGeom prst="rect">
            <a:avLst/>
          </a:prstGeom>
          <a:ln w="0">
            <a:noFill/>
          </a:ln>
        </p:spPr>
      </p:pic>
      <p:sp>
        <p:nvSpPr>
          <p:cNvPr id="99" name="Oval 14"/>
          <p:cNvSpPr/>
          <p:nvPr/>
        </p:nvSpPr>
        <p:spPr>
          <a:xfrm>
            <a:off x="5869080" y="1420920"/>
            <a:ext cx="647640" cy="574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4000" y="90504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Fase preparatoria en la que la glucosa es fosforilada, isomerizada y fragmentada, dando lugar a dos moléculas de gliceralde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-3-fosfato. Este proceso consume 2 AT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4000" y="3259080"/>
            <a:ext cx="38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ASE I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s dos moléculas anteriormente formada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vierten en dos moléculas de piruvato, con la producción de 4 ATPs y 2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140360" y="260280"/>
            <a:ext cx="3411360" cy="2808360"/>
            <a:chOff x="4140360" y="260280"/>
            <a:chExt cx="3411360" cy="2808360"/>
          </a:xfrm>
        </p:grpSpPr>
        <p:pic>
          <p:nvPicPr>
            <p:cNvPr id="103" name="Picture 9" descr="glycolysis"/>
            <p:cNvPicPr/>
            <p:nvPr/>
          </p:nvPicPr>
          <p:blipFill>
            <a:blip r:embed="rId1"/>
            <a:srcRect l="0" t="0" r="0" b="55836"/>
            <a:stretch/>
          </p:blipFill>
          <p:spPr>
            <a:xfrm>
              <a:off x="4140360" y="333360"/>
              <a:ext cx="3411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9"/>
            <p:cNvSpPr/>
            <p:nvPr/>
          </p:nvSpPr>
          <p:spPr>
            <a:xfrm>
              <a:off x="5535720" y="260280"/>
              <a:ext cx="179856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5751720" y="2421000"/>
              <a:ext cx="179856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9" descr="glycolysis"/>
          <p:cNvPicPr/>
          <p:nvPr/>
        </p:nvPicPr>
        <p:blipFill>
          <a:blip r:embed="rId2"/>
          <a:srcRect l="0" t="44187" r="0" b="0"/>
          <a:stretch/>
        </p:blipFill>
        <p:spPr>
          <a:xfrm>
            <a:off x="4140360" y="3068640"/>
            <a:ext cx="3411360" cy="3456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1401480" y="18900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Vía Glico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 rot="19007400">
            <a:off x="972000" y="2996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0000"/>
                </a:solidFill>
                <a:latin typeface="Century Gothic"/>
              </a:rPr>
              <a:t>Citosol cel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786720" y="620640"/>
            <a:ext cx="21780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Vía Universal. Ejemplo de unidad del mundo bi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Todos los intermediarios se encuentran fosfori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El NAD</a:t>
            </a:r>
            <a:r>
              <a:rPr b="1" i="1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es el agente oxid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No requiere O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(anaerobio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- Es el mecanismo proveedor de E mas antiguo desde el punto de vista evolu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1"/>
          <p:cNvGrpSpPr/>
          <p:nvPr/>
        </p:nvGrpSpPr>
        <p:grpSpPr>
          <a:xfrm>
            <a:off x="3548160" y="404640"/>
            <a:ext cx="5056200" cy="6025680"/>
            <a:chOff x="3548160" y="404640"/>
            <a:chExt cx="5056200" cy="6025680"/>
          </a:xfrm>
        </p:grpSpPr>
        <p:pic>
          <p:nvPicPr>
            <p:cNvPr id="111" name="Picture 4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354816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5"/>
            <p:cNvSpPr/>
            <p:nvPr/>
          </p:nvSpPr>
          <p:spPr>
            <a:xfrm>
              <a:off x="649872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651924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651996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56856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457200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464328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4859280" y="1916280"/>
            <a:ext cx="3097440" cy="12952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95280" y="475200"/>
            <a:ext cx="28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1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Fosforil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 de la glucosa con consumo del primer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39640" y="56664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- Si la glucosa proviene de la degradación de glucógeno en animales o de almidón en vege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74080" y="20606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GLUC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306800" y="34225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0"/>
          <p:cNvGrpSpPr/>
          <p:nvPr/>
        </p:nvGrpSpPr>
        <p:grpSpPr>
          <a:xfrm>
            <a:off x="2620080" y="1940400"/>
            <a:ext cx="2487240" cy="2066400"/>
            <a:chOff x="2620080" y="1940400"/>
            <a:chExt cx="2487240" cy="2066400"/>
          </a:xfrm>
        </p:grpSpPr>
        <p:sp>
          <p:nvSpPr>
            <p:cNvPr id="124" name="Line 7"/>
            <p:cNvSpPr/>
            <p:nvPr/>
          </p:nvSpPr>
          <p:spPr>
            <a:xfrm>
              <a:off x="2627280" y="2276640"/>
              <a:ext cx="2449440" cy="4316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V="1">
              <a:off x="2627280" y="3141360"/>
              <a:ext cx="2449440" cy="4316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 rot="583200">
              <a:off x="2777760" y="213336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Glucógeno fosfor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 rot="21013200">
              <a:off x="2633400" y="3068640"/>
              <a:ext cx="207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Almidón fosfori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2"/>
            <p:cNvSpPr/>
            <p:nvPr/>
          </p:nvSpPr>
          <p:spPr>
            <a:xfrm>
              <a:off x="3452760" y="36385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2701800" y="2637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rc 14"/>
            <p:cNvSpPr/>
            <p:nvPr/>
          </p:nvSpPr>
          <p:spPr>
            <a:xfrm flipH="1">
              <a:off x="3708360" y="3357720"/>
              <a:ext cx="287280" cy="43164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fill="none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</a:path>
                <a:path stroke="0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rc 15"/>
            <p:cNvSpPr/>
            <p:nvPr/>
          </p:nvSpPr>
          <p:spPr>
            <a:xfrm flipH="1">
              <a:off x="2987640" y="2349360"/>
              <a:ext cx="287280" cy="43200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fill="none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</a:path>
                <a:path stroke="0" w="20609" h="21600">
                  <a:moveTo>
                    <a:pt x="-1" y="0"/>
                  </a:moveTo>
                  <a:cubicBezTo>
                    <a:pt x="9438" y="0"/>
                    <a:pt x="17783" y="6128"/>
                    <a:pt x="20609" y="1513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0"/>
          <p:cNvGrpSpPr/>
          <p:nvPr/>
        </p:nvGrpSpPr>
        <p:grpSpPr>
          <a:xfrm>
            <a:off x="5148360" y="4579920"/>
            <a:ext cx="1944720" cy="1945440"/>
            <a:chOff x="5148360" y="4579920"/>
            <a:chExt cx="1944720" cy="1945440"/>
          </a:xfrm>
        </p:grpSpPr>
        <p:pic>
          <p:nvPicPr>
            <p:cNvPr id="133" name="Picture 17" descr="GLU6P"/>
            <p:cNvPicPr/>
            <p:nvPr/>
          </p:nvPicPr>
          <p:blipFill>
            <a:blip r:embed="rId1"/>
            <a:srcRect l="0" t="0" r="0" b="9625"/>
            <a:stretch/>
          </p:blipFill>
          <p:spPr>
            <a:xfrm>
              <a:off x="5148360" y="4579920"/>
              <a:ext cx="194472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9"/>
            <p:cNvSpPr/>
            <p:nvPr/>
          </p:nvSpPr>
          <p:spPr>
            <a:xfrm>
              <a:off x="5439600" y="618804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lucosa-6-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2"/>
          <p:cNvGrpSpPr/>
          <p:nvPr/>
        </p:nvGrpSpPr>
        <p:grpSpPr>
          <a:xfrm>
            <a:off x="5292720" y="2276640"/>
            <a:ext cx="1689120" cy="1513440"/>
            <a:chOff x="5292720" y="2276640"/>
            <a:chExt cx="1689120" cy="1513440"/>
          </a:xfrm>
        </p:grpSpPr>
        <p:grpSp>
          <p:nvGrpSpPr>
            <p:cNvPr id="136" name="Group 21"/>
            <p:cNvGrpSpPr/>
            <p:nvPr/>
          </p:nvGrpSpPr>
          <p:grpSpPr>
            <a:xfrm>
              <a:off x="5292720" y="2276640"/>
              <a:ext cx="1689120" cy="1513440"/>
              <a:chOff x="5292720" y="2276640"/>
              <a:chExt cx="1689120" cy="1513440"/>
            </a:xfrm>
          </p:grpSpPr>
          <p:sp>
            <p:nvSpPr>
              <p:cNvPr id="137" name="Text Box 9"/>
              <p:cNvSpPr/>
              <p:nvPr/>
            </p:nvSpPr>
            <p:spPr>
              <a:xfrm>
                <a:off x="5367960" y="3452760"/>
                <a:ext cx="136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Glucosa-1-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16" descr="GLU1P"/>
              <p:cNvPicPr/>
              <p:nvPr/>
            </p:nvPicPr>
            <p:blipFill>
              <a:blip r:embed="rId2"/>
              <a:srcRect l="0" t="0" r="0" b="13946"/>
              <a:stretch/>
            </p:blipFill>
            <p:spPr>
              <a:xfrm>
                <a:off x="5292720" y="2276640"/>
                <a:ext cx="1689120" cy="122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23"/>
            <p:cNvSpPr/>
            <p:nvPr/>
          </p:nvSpPr>
          <p:spPr>
            <a:xfrm>
              <a:off x="5367960" y="3452760"/>
              <a:ext cx="13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lucosa-1-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5938920" y="4005360"/>
            <a:ext cx="2057040" cy="576000"/>
            <a:chOff x="5938920" y="4005360"/>
            <a:chExt cx="2057040" cy="576000"/>
          </a:xfrm>
        </p:grpSpPr>
        <p:grpSp>
          <p:nvGrpSpPr>
            <p:cNvPr id="141" name="Group 25"/>
            <p:cNvGrpSpPr/>
            <p:nvPr/>
          </p:nvGrpSpPr>
          <p:grpSpPr>
            <a:xfrm>
              <a:off x="5938920" y="4005360"/>
              <a:ext cx="73080" cy="576000"/>
              <a:chOff x="5938920" y="4005360"/>
              <a:chExt cx="73080" cy="576000"/>
            </a:xfrm>
          </p:grpSpPr>
          <p:sp>
            <p:nvSpPr>
              <p:cNvPr id="142" name="Line 22"/>
              <p:cNvSpPr/>
              <p:nvPr/>
            </p:nvSpPr>
            <p:spPr>
              <a:xfrm>
                <a:off x="5938920" y="4005360"/>
                <a:ext cx="0" cy="576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24"/>
              <p:cNvSpPr/>
              <p:nvPr/>
            </p:nvSpPr>
            <p:spPr>
              <a:xfrm>
                <a:off x="6012000" y="4005360"/>
                <a:ext cx="0" cy="5760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26"/>
            <p:cNvSpPr/>
            <p:nvPr/>
          </p:nvSpPr>
          <p:spPr>
            <a:xfrm>
              <a:off x="6017040" y="410040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ff"/>
                  </a:solidFill>
                  <a:latin typeface="Arial"/>
                </a:rPr>
                <a:t>Fosfoglucomut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27"/>
          <p:cNvSpPr/>
          <p:nvPr/>
        </p:nvSpPr>
        <p:spPr>
          <a:xfrm>
            <a:off x="6227640" y="2852640"/>
            <a:ext cx="1008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8"/>
          <p:cNvSpPr/>
          <p:nvPr/>
        </p:nvSpPr>
        <p:spPr>
          <a:xfrm>
            <a:off x="5076720" y="4508640"/>
            <a:ext cx="100800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29"/>
          <p:cNvSpPr/>
          <p:nvPr/>
        </p:nvSpPr>
        <p:spPr>
          <a:xfrm flipV="1" rot="20507400">
            <a:off x="5927760" y="2180520"/>
            <a:ext cx="685800" cy="78156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781560"/>
              <a:gd name="textAreaBottom" fmla="*/ 781560 h 781560"/>
            </a:gdLst>
            <a:ahLst/>
            <a:rect l="textAreaLeft" t="textAreaTop" r="textAreaRight" b="textAreaBottom"/>
            <a:pathLst>
              <a:path fill="none" w="22890" h="25339">
                <a:moveTo>
                  <a:pt x="22563" y="0"/>
                </a:moveTo>
                <a:cubicBezTo>
                  <a:pt x="22780" y="1234"/>
                  <a:pt x="22890" y="2485"/>
                  <a:pt x="22890" y="3739"/>
                </a:cubicBezTo>
                <a:cubicBezTo>
                  <a:pt x="22890" y="15668"/>
                  <a:pt x="13219" y="25339"/>
                  <a:pt x="1290" y="25339"/>
                </a:cubicBezTo>
                <a:cubicBezTo>
                  <a:pt x="859" y="25339"/>
                  <a:pt x="429" y="25326"/>
                  <a:pt x="-1" y="25300"/>
                </a:cubicBezTo>
              </a:path>
              <a:path stroke="0" w="22890" h="25339">
                <a:moveTo>
                  <a:pt x="22563" y="0"/>
                </a:moveTo>
                <a:cubicBezTo>
                  <a:pt x="22780" y="1234"/>
                  <a:pt x="22890" y="2485"/>
                  <a:pt x="22890" y="3739"/>
                </a:cubicBezTo>
                <a:cubicBezTo>
                  <a:pt x="22890" y="15668"/>
                  <a:pt x="13219" y="25339"/>
                  <a:pt x="1290" y="25339"/>
                </a:cubicBezTo>
                <a:cubicBezTo>
                  <a:pt x="859" y="25339"/>
                  <a:pt x="429" y="25326"/>
                  <a:pt x="-1" y="25300"/>
                </a:cubicBezTo>
                <a:lnTo>
                  <a:pt x="1290" y="3739"/>
                </a:lnTo>
                <a:lnTo>
                  <a:pt x="22563" y="0"/>
                </a:lnTo>
                <a:close/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2036880" y="404640"/>
            <a:ext cx="5056200" cy="6025680"/>
            <a:chOff x="2036880" y="404640"/>
            <a:chExt cx="5056200" cy="6025680"/>
          </a:xfrm>
        </p:grpSpPr>
        <p:pic>
          <p:nvPicPr>
            <p:cNvPr id="149" name="Picture 3" descr="1 VG"/>
            <p:cNvPicPr/>
            <p:nvPr/>
          </p:nvPicPr>
          <p:blipFill>
            <a:blip r:embed="rId1"/>
            <a:srcRect l="0" t="0" r="0" b="56182"/>
            <a:stretch/>
          </p:blipFill>
          <p:spPr>
            <a:xfrm>
              <a:off x="2036880" y="404640"/>
              <a:ext cx="5056200" cy="59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4"/>
            <p:cNvSpPr/>
            <p:nvPr/>
          </p:nvSpPr>
          <p:spPr>
            <a:xfrm>
              <a:off x="4987440" y="23493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exo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5007960" y="3208320"/>
              <a:ext cx="133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gluc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5008680" y="4071960"/>
              <a:ext cx="137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osfofructo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quin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5057280" y="52293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ldol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3060720" y="6093000"/>
              <a:ext cx="2879640" cy="337320"/>
            </a:xfrm>
            <a:prstGeom prst="rect">
              <a:avLst/>
            </a:prstGeom>
            <a:solidFill>
              <a:srgbClr val="f2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iosa fosfato isomera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3132000" y="476280"/>
              <a:ext cx="28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A GLICOLITICA- FASE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0"/>
          <p:cNvSpPr/>
          <p:nvPr/>
        </p:nvSpPr>
        <p:spPr>
          <a:xfrm>
            <a:off x="3203640" y="2925720"/>
            <a:ext cx="3240000" cy="1079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18960" y="61632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Reacción 2. </a:t>
            </a:r>
            <a:r>
              <a:rPr b="1" i="1" lang="es-ES" sz="2000" spc="-1" strike="noStrike" u="sng">
                <a:solidFill>
                  <a:srgbClr val="009999"/>
                </a:solidFill>
                <a:uFillTx/>
                <a:latin typeface="Arial"/>
              </a:rPr>
              <a:t>Isomerización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Conversión de Glu-6-P (isómero aldosa) a fructosa-6-fosfato (Fru-6-P, isómero cetosa) catalizada por la </a:t>
            </a:r>
            <a:r>
              <a:rPr b="1" i="1" lang="es-ES" sz="2000" spc="-1" strike="noStrike">
                <a:solidFill>
                  <a:srgbClr val="0000ff"/>
                </a:solidFill>
                <a:latin typeface="Arial"/>
              </a:rPr>
              <a:t>Fosfoglucoisomerasa</a:t>
            </a:r>
            <a:r>
              <a:rPr b="1" i="1" lang="es-ES" sz="2000" spc="-1" strike="noStrike">
                <a:solidFill>
                  <a:srgbClr val="009999"/>
                </a:solidFill>
                <a:latin typeface="Arial"/>
              </a:rPr>
              <a:t>. Primero debe abrirse el anillo para que ocurra la isomerización, con posterior ciclación de la fructo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1547640" y="2492280"/>
          <a:ext cx="63374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92280"/>
                    <a:ext cx="633744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7"/>
          <p:cNvSpPr/>
          <p:nvPr/>
        </p:nvSpPr>
        <p:spPr>
          <a:xfrm>
            <a:off x="3957840" y="4313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g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o Mn</a:t>
            </a:r>
            <a:r>
              <a:rPr b="1" lang="es-ES_tradnl" sz="1800" spc="-1" strike="noStrike" baseline="30000">
                <a:solidFill>
                  <a:srgbClr val="0000ff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3:10:15Z</dcterms:created>
  <dc:creator>Colossus User</dc:creator>
  <dc:description/>
  <dc:language>en-US</dc:language>
  <cp:lastModifiedBy>Ana Anzulovich</cp:lastModifiedBy>
  <dcterms:modified xsi:type="dcterms:W3CDTF">2017-04-05T23:48:38Z</dcterms:modified>
  <cp:revision>64</cp:revision>
  <dc:subject/>
  <dc:title>Diapositiva 1</dc:title>
</cp:coreProperties>
</file>